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DF5-6B4C-4826-B89C-0F4BCD56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47960"/>
            <a:ext cx="830592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DEC-1ADF-416B-8169-DD0BBD1E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A72-198B-48D5-9701-81269ADD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14264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14264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4796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374796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374796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ED5-C220-4E55-8719-47B9B120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A9C7-F16B-4E2A-9DB2-C4D2690F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0BF4-893B-482D-91F4-26B05D0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E13D-43D6-4AAC-9CC8-6656053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C6F7-D7DC-45DF-A880-1332150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1F53-8BFB-4AC7-B9C6-31F1869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64BE-7012-481C-AE3E-9CC60BD5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94C0-7323-4548-BC9E-2823EFE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2B3-9417-465D-9486-020D604A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348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0A8-6AF9-4D96-BDC8-28AB00C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47960"/>
            <a:ext cx="830592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E34-3A44-470B-8E1A-762E38E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747960"/>
            <a:ext cx="830592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B753-9CA5-4C32-809E-27C0A7B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348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27D5-109F-4781-B545-D68EF1C9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65920" y="114264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4280" y="114264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74796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65920" y="374796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4280" y="3747960"/>
            <a:ext cx="26744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E699-5EFF-418E-9F53-22FAF5E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A63-F6D4-463F-B906-C6E9477B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78A-A900-4E6F-86B0-845ECAE5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AA8-D89C-4D49-8780-AB2DFF3A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81D-81E3-461C-AA1D-FCF08E4B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CFF-32B4-4983-8EC8-5E727B2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374796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A25-A9A3-482C-B04A-747876A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47960"/>
            <a:ext cx="830592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01B-BA39-4591-8FF5-7B68810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EB81-0937-4FEB-865D-2E495E1F00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-533520"/>
            <a:ext cx="8686800" cy="1600200"/>
            <a:chOff x="304920" y="-53352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82760" y="10666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63120" y="-53352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-53352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-30492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63120" y="-30312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039D-6824-437A-89B9-0173CE43DF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DISCIPLINING SEARCH / 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SEARCHING DISCIPLINES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pectives from academic commun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metasearch qualit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4913280"/>
            <a:ext cx="527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743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therine Skinner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gital Programs Team Lead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ory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65760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hit Chopra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taScholar Fellow, Woodruff Library, Emory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Methodolog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(Emory): Focus groups with Emory faculty and graduate students in the humanities, social sciences and sc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ative (Virginia Tech): Survey instrument to record students responses to  tasks on metasearch retrie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Focus Groups Structure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focus groups between Oct. and Dec. 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ommunities: Emory faculty and graduate students (in the humanities and scien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participants (11 humanities faculty, 3 sciences faculty, 8 humanities graduate stud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Individual Focus Group Desig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(objectives, participant righ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etical scenari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ck-ups of metasearch (for “globalization,” “civil rights movemen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ing metadata attributes (format, no. of citations, substantive quality rank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of mock-ups to show increasing levels of metadata / quality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 with existing metasearch systems (eg., A9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Version 2: Screen 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034040" cy="50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Version 2: Screen b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1555920"/>
            <a:ext cx="637380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Version 2: Screen c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599112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cope of Discussion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and ‘fitness’ metrics (substantive and descriptive attribu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ity / logic of retrieval and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thetic / design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ffirmation of need for good meta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discipline and topical specializ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genre / domain level (archives, pamphlets, book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of quality / fitness contingent more on metadisciplinary and disciplinary orientation (sciences, humanities) than on research level (faculty or graduate stu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consensus across communities on abstract notions of academic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specific information requirements about quality/ fitness of records, based on combination of task, discipline, and topical speci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mand for Transparenc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: Explanation of logic of ranking, meaning of each attribute (domain, format, number of citations), range of databases, sources searched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atisfaction expressed about opacity of ranking criteria in curr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 needs to be reinforced through institutional cred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Empowerment to Evaluate Qua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quantifiability of academic valu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 skepticism expressed about substantive quality indicators such as points system for ranking books and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defined as the empowerment of academic communities to make their own judgment about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nking system for academic websites described as useful, if provided by legitimate associations eg., the AHA for history websi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ntext: history, background, and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gather and understand user quality metr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ather foundational data concerning user quality metrics for metasearch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cover the best way to present retrieval results based on user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ese findings to a working prototyp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the effectiveness of this system relative to standard or typically available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mpeting Notions of Qua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ranking requires balancing competing or contradictory impe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“an equivalent of the academic peer-review process” in terms of cred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avoid reinforcing “the very conservative base of peer review” while providing access to the broadest range of source materials for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iscipline- and Task-specific Metric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logy: divide records by “secular” and “theological”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 Studies: metadata on materials such as pamphlets and po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s: Search intelligence to be sensitive to mathematical 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y: Identification of laboratory protocols in preliminary research for new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, Literature: Archival metadata, full content of archives, and quality of archival ho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Increased User Options as Qualit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to sort full text from summarie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to retain ‘memory’ of search sequence, if trying new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atenate results of same source from multiple access points (eg., one periodical accessible from multiple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to sort results by word length, number of citations (eg., Amazon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to switch sets of metrics midway through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reas for Developing Quality Metrics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i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es: collection-level and item-level hol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-languag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mphlets, posters, leaflets: cultu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ites (not counting online journal databases online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nclusion: QM Project Phase II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prototyp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foc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ves and archival ho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language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andard’ academic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taScholar Initi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library research program at Emory University to study applications of new technology for scholarly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2.6 M in funding for eight projects 2001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ons with libraries, archives, museums, and other cultural memory organ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3120" y="559080"/>
            <a:ext cx="8177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taScholar Research Area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tools a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nd Discover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searching and automated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fting and organizing coherent subject domains of relate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Publi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new tools for scholarly discourse / content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83120" y="559080"/>
            <a:ext cx="8177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oject Contex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stration with current search and discovery systems for scholarly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with Southern Studies faculty group, our Advisor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outh.org, Music of Social Change, MetaCom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83120" y="559080"/>
            <a:ext cx="8177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urrent Search System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 (ProjectMuse, JS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, Movies, Music (EUC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ibrary Loans (WorldC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val Resources (OAIster, AmericanSouth.org, individual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-based Resources (Google, Yahoo, et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83120" y="559080"/>
            <a:ext cx="8177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ederated Approac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on for a new, open source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across various informational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according to user profiles and researched “quality metrics” as identified by particular user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deployable at different institutions for their particular user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83120" y="559080"/>
            <a:ext cx="8177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tin Halbert, Director of Digital Programs an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ron Krowne, Head of Digital Library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vashi Gadi, Analyst and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hit Chopra, MetaScholar Fe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erine Skinner, Digital Programs Team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rie Finnegan, Graduate Studen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Hypothesi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users of digital library metasearch services think in terms of  implicit quality metrics that can be respected in retrieval ranking, improving results over the current text-query relevance and even hub-authority based methods. If effective metasearch systems are to be informed by empirical studies of actual users, this hypothesis must be tested” (Halbert and Krowne 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36:17Z</dcterms:created>
  <dc:creator>General Libraries</dc:creator>
  <dc:description/>
  <dc:language>en-US</dc:language>
  <cp:lastModifiedBy>General Libraries</cp:lastModifiedBy>
  <dcterms:modified xsi:type="dcterms:W3CDTF">2006-02-13T15:18:18Z</dcterms:modified>
  <cp:revision>110</cp:revision>
  <dc:subject/>
  <dc:title>Slide 1</dc:title>
</cp:coreProperties>
</file>