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A5AB-C585-40D1-B259-6A3406274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2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82120" y="6477120"/>
            <a:ext cx="4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44D6-4C57-4DB8-93D2-A1FCB8CCE76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447920" cy="347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674760" y="644832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reativegoo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5867280" y="152280"/>
            <a:ext cx="2819520" cy="492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95280" y="175248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essing the Use of Digital Resour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43880" y="6472080"/>
            <a:ext cx="60012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76320" y="5154480"/>
            <a:ext cx="185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ca G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ve Good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0 Sandalwood 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initas, CA 920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.632.7278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ca@creativegoo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84640" y="2209680"/>
            <a:ext cx="44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Custom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676520"/>
            <a:ext cx="8305920" cy="40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0 year beta test is over - customer experience 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ting the basics 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Method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Digital Resources to help Public Librar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een s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shall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shall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30520" y="1473120"/>
            <a:ext cx="208296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shall Field - 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057400" y="1905120"/>
          <a:ext cx="477504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4775040" cy="2514600"/>
                  </a:xfrm>
                  <a:prstGeom prst="rect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shall Field - 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057400" y="1905120"/>
          <a:ext cx="477504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4775040" cy="2514600"/>
                  </a:xfrm>
                  <a:prstGeom prst="rect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33520" y="4648320"/>
            <a:ext cx="830556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y shoppers would Amazon need in one day to equal Marshall Field’s 1902 opening day turnou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shall Field - 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057400" y="1905120"/>
          <a:ext cx="477504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4775040" cy="2514600"/>
                  </a:xfrm>
                  <a:prstGeom prst="rect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33520" y="4648320"/>
            <a:ext cx="8305560" cy="18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y shoppers would Amazon need in one day to equal Marshall Field’s 1902 opening day turnou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4 mill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azon - the most fabulously optimistic number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133720" y="2057400"/>
          <a:ext cx="477504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057400"/>
                    <a:ext cx="4775040" cy="2514600"/>
                  </a:xfrm>
                  <a:prstGeom prst="rect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33520" y="4648320"/>
            <a:ext cx="8305560" cy="18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azon reported 700,000 shoppers in one hour during 2004 holiday sea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0,000 * 24 = 16.8 million or 5.9% of the U.S. po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Field do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676520"/>
            <a:ext cx="8305920" cy="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customer resear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shall Field Inno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676520"/>
            <a:ext cx="8305920" cy="55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pping as experi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e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ey-back guarantee, no questions asked return 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te label goods/vertical integ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key metrics (great inventory turnover-8 for apparel; quilts 2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rgain bas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employee experience means good customer experi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8380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is it unfair to compare 1902 Field’s to Amazon and many brick &amp; mortar retailers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8380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goal: change the design of business over the next 5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8380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is it unfair to compare 1902 Field’s to Amazon and many retailers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860480"/>
            <a:ext cx="830592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eat economic and demographic ch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sing in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strialization (really two industrial revolu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459080"/>
            <a:ext cx="81532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etwork user, new and established, is probably the most neglected element within the present development atmospher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nternet research stu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67652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00 year beta test is over - customer experience 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tting the basics 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Method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Digital Resources to help Public Libra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een s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azon Homepage March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57531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azon Search Results March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533840" cy="447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azon Cart March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3211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azon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759440" cy="464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velocity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5102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357960" cy="4997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velocity after - The leadership of the custo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velocity 20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137360" cy="43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Basic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860480"/>
            <a:ext cx="830592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ing customers find what they are looking for (search, navigation, merchandis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ing customers make a decision or achieve a goal (find info, perform a task, make a purch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67652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00 year beta test is over - customer experience 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ting the basics 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ur Method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Digital Resources to help Public Libra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een s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860480"/>
            <a:ext cx="830592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ably enhance business performance by improving the customer experien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860480"/>
            <a:ext cx="8305920" cy="38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strategic customer experience changes that will yield the most improvem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business – metrics, strategies, user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isten and wat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sers ‘in action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current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t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e and prioritize recommendations based on impact and ease of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67652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00 year beta test is over - customer experience 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ting the basics 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Method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Digital Resources to help Public Libra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een s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371600"/>
            <a:ext cx="830556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cern:  People have fled the public libra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braries play a key role in litera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ding c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ful functionality online, but is it easy to u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:  Bring People Back to the Public Libra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Aware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pite online books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still done in pr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users it can be easy to ‘do business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luence how sites are desig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676520"/>
            <a:ext cx="830592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iewed various users, past and pres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ed Key/Latent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/Renew a Boo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 Library C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rs of 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ting the basics right – provide an easy to use front d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oklyn Public Library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315200" cy="4370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5800" y="1676520"/>
            <a:ext cx="73152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676520"/>
            <a:ext cx="8305920" cy="24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dle class customers not using the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 were shocked, surprised and delighted to learn they could borrow books on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when they heard this, they found it hard to fi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can be confusing (i.e. catalo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62012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Conclusions and results (in be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676520"/>
            <a:ext cx="8305920" cy="26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en to your users and find what’s most impor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the basics right – provide an easy to use front d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 A Bo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676520"/>
            <a:ext cx="701028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682452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676520"/>
            <a:ext cx="8305920" cy="24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e resul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traffic numbers for the site and key li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options for partnerships to increase awareness (i.e. Google or Yahoo keyword don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167652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00 year beta test is over - customer experience 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ting the basics 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Method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Digital Resources to help Public Librar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een s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676520"/>
            <a:ext cx="8305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67652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00 year beta test is over - customer experience 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ting the basics 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Method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Digital Resources to Help Public Libra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een s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oklyn Public Library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315200" cy="4370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5800" y="1676520"/>
            <a:ext cx="73152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 A Bo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676520"/>
            <a:ext cx="701028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682452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 A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676520"/>
            <a:ext cx="701028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68529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 A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76520"/>
            <a:ext cx="701028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68673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523880"/>
            <a:ext cx="78296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would skip to another website.  The info here feels really vague.  I don't feel like Gateway is speaking to specific needs.  It would take too much time to sort all of it out.  Why would I want to "connect"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'm none of the people mentioned in the center of the page.  I'm several of the users lifted on the upper right side of the page.  I can't ell which click is most likely to get me to computers that I'll like.  So, I guess I'll click "Home Desktops".  (It is clickable, right?)  I despair at the thought of what the next 2 through n pages will b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almost felt like it was spoof web site and expected some comical little phrases and links placed i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'm overwhelmed.  I need a computer for my business, but I'm not sure where to start--at the Your:) for Business or What type of customer I am.  Wait a minute, the Spot Shop is about software, not computers.  I think I should start with What kind of user are you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 A Book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971800"/>
            <a:ext cx="77724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7467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row A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01028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67816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row A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676520"/>
            <a:ext cx="701028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6782040" cy="4024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57400" y="1523880"/>
            <a:ext cx="198108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row A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01028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67816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333760" cy="512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8305920" cy="18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sion rate immediately increased by 4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 number of people who purchase as a percent of those who vis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100 million incremental revenue in the first y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 simple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830592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ly observe your users, identify latent needs and design your business, your product, your website - around those insigh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45252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001880"/>
            <a:ext cx="81532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not necessary to do extraordinary things to get extraordinary result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arren Buffe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8:24:56Z</dcterms:created>
  <dc:creator>User</dc:creator>
  <dc:description/>
  <dc:language>en-US</dc:language>
  <cp:lastModifiedBy>CRC</cp:lastModifiedBy>
  <cp:lastPrinted>2002-04-18T21:10:42Z</cp:lastPrinted>
  <dcterms:modified xsi:type="dcterms:W3CDTF">2006-02-15T20:33:27Z</dcterms:modified>
  <cp:revision>204</cp:revision>
  <dc:subject/>
  <dc:title>No Slide Title</dc:title>
</cp:coreProperties>
</file>