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605-B678-4275-BA2F-506341BD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D44-8339-426C-AADA-4C52C92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B3B-A9D4-47FA-BA25-A9882617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E79-75E2-4884-8BAA-629481D9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8EC-3DBD-4232-9DF7-226823C3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B73-22E1-4708-A429-32772E4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286-E347-4905-BCC7-3B20822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C5D-D84D-4421-A91A-2D990D1D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0DA-2279-4C92-A549-71DA836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39C-ACA7-4090-ABCF-B25F556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9EA-2FE1-49E6-906E-7C3BE3B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E2E-2018-4093-A02A-16D324F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C577-40FF-4E37-8326-B0F6EA3F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762120"/>
            <a:ext cx="72388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ces in Discovery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 Cultural Atlas Initiative Exper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Lancas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chael Buck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Cultural Atlas Initiati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of California, Berkel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LS WebWis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09480"/>
            <a:ext cx="83059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ngitu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and a GAZETTEER lin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zetteer is a list of place na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k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lace (Feature type): city, lake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giv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show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ce names are for different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brings tog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s for the same pl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places to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played on m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44120" cy="4708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380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ing places in the catalo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inked to a gazetteer and map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2320" y="762120"/>
            <a:ext cx="76176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7596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6760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etteer lists capital cities (PPLC) in box around Sou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038480"/>
            <a:ext cx="60948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ECAI Metadata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 directory       Tim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10514" r="0" b="0"/>
          <a:stretch/>
        </p:blipFill>
        <p:spPr>
          <a:xfrm>
            <a:off x="380880" y="2286000"/>
            <a:ext cx="8070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208160"/>
            <a:ext cx="8381880" cy="42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a similar solution:  A gazetteer-like Time Period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ette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ce name – Type – Spatial markers (Lat &amp; long) --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iod name – Type – Time markers (Calendar) –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connections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rectory of 2,000 named time periods derived from LCSH Chronological subdivisions is a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ai.org/imls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590920"/>
            <a:ext cx="2133720" cy="609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590920"/>
            <a:ext cx="2133720" cy="609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205740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812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0492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between place names &amp; perio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AI Metadata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graphical di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xt &amp;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4770" t="21876" r="2165" b="45314"/>
          <a:stretch/>
        </p:blipFill>
        <p:spPr>
          <a:xfrm>
            <a:off x="457200" y="281952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733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s involve ev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: Actions –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rab inv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 Places -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tesip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: Times –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632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: People  –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hosrau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4290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3808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W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Catalog records found from a time period search commonly include names of persons important at that time. Their names can be forwarded to, e.g., biographies in the Wikipedia encyclope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4857840" cy="28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27560" y="3570120"/>
            <a:ext cx="4664160" cy="252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343400" y="2361960"/>
            <a:ext cx="53352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438280"/>
            <a:ext cx="0" cy="2057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124080" y="3733920"/>
            <a:ext cx="121932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28600"/>
            <a:ext cx="8153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BIOG. DIC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OPIC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a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GAZETTE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a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o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IME PERIOD DIRECTORY              Time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hro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ormalize time terminology and calen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imilarly with personal names . . . et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1981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752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1430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14040" y="3581280"/>
            <a:ext cx="15238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81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228600"/>
            <a:ext cx="8153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ngsana New"/>
              </a:rPr>
              <a:t>BIOG. DICT.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BIOG. DIC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TOPIC LIS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Text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Angsana New"/>
              </a:rPr>
              <a:t>TOPIC LIS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OPIC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a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GAZETTE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a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o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Angsana New"/>
              </a:rPr>
              <a:t>GAZETTEER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ngsana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ngsana New"/>
              </a:rPr>
              <a:t>GAZETTE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TIME PERIOD DIRECTORY               Tim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TIME PERIOD DIRECTORY 2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hro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 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Angsana New"/>
              </a:rPr>
              <a:t>TIME PERIOD DIRECTORY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etadata is a form of infrastruc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1981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752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2193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14040" y="3581280"/>
            <a:ext cx="15238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334120" y="762120"/>
            <a:ext cx="60948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65760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609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90920" y="1294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814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53337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document, object, or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800600"/>
            <a:ext cx="3429000" cy="14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sou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Images, Texts, Numeric data, Obje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reality, 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819520"/>
            <a:ext cx="3124080" cy="12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atalog: Archives, Libraries, Museums,  TV,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858000" y="41144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2880" y="342900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Markup with metadata connect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to its context – and all other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040" y="1371600"/>
            <a:ext cx="609480" cy="1143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917640" cy="1981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1932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Understanding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 means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knowing context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514600"/>
            <a:ext cx="487656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Facet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Vocabulary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Thesaurus      Cros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e.g. LCSH     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Gazetteer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   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EN</a:t>
            </a:r>
            <a:r>
              <a:rPr b="1" lang="en-US" sz="2000" spc="-1" strike="noStrike">
                <a:solidFill>
                  <a:srgbClr val="ff33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Period directory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O</a:t>
            </a:r>
            <a:r>
              <a:rPr b="1" lang="en-US" sz="2000" spc="-1" strike="noStrike">
                <a:solidFill>
                  <a:srgbClr val="ff33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Biograph. dict.   Tex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MT"/>
              </a:rPr>
              <a:t>Who’s Who      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AI Metadata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91764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4419720"/>
            <a:ext cx="342900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sou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Images, Texts, Numeric data, Obje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reality, 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2286000"/>
            <a:ext cx="3276720" cy="1257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atalog: Archives, Libraries, Museums,  TV,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162920" y="3505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752480"/>
            <a:ext cx="449568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Facet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Vocabulary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Thesaurus      Cros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e.g. LCSH  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Gazetteer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  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EN</a:t>
            </a:r>
            <a:r>
              <a:rPr b="1" lang="en-US" sz="2000" spc="-1" strike="noStrike">
                <a:solidFill>
                  <a:srgbClr val="ff33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Period direct. 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WHO</a:t>
            </a:r>
            <a:r>
              <a:rPr b="1" lang="en-US" sz="2000" spc="-1" strike="noStrike">
                <a:solidFill>
                  <a:srgbClr val="ff33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Biograph. dict.   Tex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MT"/>
              </a:rPr>
              <a:t>Who’s Who</a:t>
            </a:r>
            <a:r>
              <a:rPr b="0" i="1" lang="en-US" sz="24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181120" y="2895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10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lectronic Cultural Atlas Initiativ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cing scholarship through increased attention to place and tim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ca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957840" cy="2778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5181480"/>
            <a:ext cx="769644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hank IMLS and NSF for 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ECAI conference, Fargo, April 18-19.  Join 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CAI Metadata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aurus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ross-referenc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&amp; between thesau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90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Hand-to-hand fighting, oriental, in motion pictures. (LCSH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64832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S MOT VEH, SPARK IGN ENG  (U.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/Export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L 205  (Library of Congress Class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80/280  (US Patent classific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711  (Standard Industrial Class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124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HS 847120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Digital auto data proc mach contng in the same housing a CPU and input &amp; output device.”(International Harmonized Commodity Classifica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4956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NEED TO MAP BETWEEN UNFAMILIAR 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earch for Automobile in a 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CAI Metadata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azetteer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564" t="19532" r="20167" b="34376"/>
          <a:stretch/>
        </p:blipFill>
        <p:spPr>
          <a:xfrm>
            <a:off x="4343400" y="2362320"/>
            <a:ext cx="4800600" cy="329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31" t="34707" r="48173" b="23442"/>
          <a:stretch/>
        </p:blipFill>
        <p:spPr>
          <a:xfrm>
            <a:off x="228600" y="2362320"/>
            <a:ext cx="41911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80" y="3024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22440" y="10065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8280" y="1600200"/>
            <a:ext cx="2682720" cy="155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of links relat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tesip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21880" y="4419720"/>
            <a:ext cx="3364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s to library cat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2520" y="46483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114800"/>
            <a:ext cx="45720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80" y="3024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03520" y="1523880"/>
            <a:ext cx="51490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39.50 search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of Congress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440" y="60480"/>
            <a:ext cx="9052200" cy="6670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1600200"/>
            <a:ext cx="3138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of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920" y="16002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5320" y="14079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to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978" t="20870" r="44361" b="43396"/>
          <a:stretch/>
        </p:blipFill>
        <p:spPr>
          <a:xfrm>
            <a:off x="152280" y="152280"/>
            <a:ext cx="88394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762120"/>
            <a:ext cx="8305920" cy="50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-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problems with place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Different forms: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St. Petersburg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, Санкт Петербург,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Saint-Pétersbourg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,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ltiple names: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Clu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, in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Romania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Roumania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Rumani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, is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Klausenburg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,Italic"/>
              </a:rPr>
              <a:t>Kolozsva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Names change: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Bombay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became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Mumbai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Same names:  18 different places have been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Beijing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Anachronisms: No country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Germany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before 18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Vague, e.g. 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Midwest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NewRoman"/>
              </a:rPr>
              <a:t>Silicon Valley, Far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 Boundaries change: 19th century Poland; Balkans; USS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23:05:50Z</dcterms:created>
  <dc:creator>buckland</dc:creator>
  <dc:description/>
  <dc:language>en-US</dc:language>
  <cp:lastModifiedBy>buckland</cp:lastModifiedBy>
  <dcterms:modified xsi:type="dcterms:W3CDTF">2006-02-14T18:01:41Z</dcterms:modified>
  <cp:revision>20</cp:revision>
  <dc:subject/>
  <dc:title>PowerPoint Presentation</dc:title>
</cp:coreProperties>
</file>