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73004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73004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73004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81952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81952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73004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73004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73004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73004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73004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73004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dde5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5141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819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"/>
          <p:cNvSpPr/>
          <p:nvPr/>
        </p:nvSpPr>
        <p:spPr>
          <a:xfrm>
            <a:off x="0" y="762120"/>
            <a:ext cx="9144000" cy="228600"/>
          </a:xfrm>
          <a:prstGeom prst="rect">
            <a:avLst/>
          </a:prstGeom>
          <a:solidFill>
            <a:srgbClr val="3a5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998640"/>
            <a:ext cx="9144000" cy="6015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219320" y="0"/>
            <a:ext cx="2527200" cy="62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624852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haring Collections Information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— A Distributed Approach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bWise 200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ay Hoffm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5141"/>
                </a:solidFill>
                <a:latin typeface="Trebuchet MS"/>
              </a:rPr>
              <a:t>Additional Challenges</a:t>
            </a: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ing the costs of participating to a nominal amou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ages are key elements of data for cultural collections and are encumbered by rights and intellectual property issu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ata mapping extends to fields as well as valu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llection-level descriptions in databases are lack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5141"/>
                </a:solidFill>
                <a:latin typeface="Trebuchet MS"/>
              </a:rPr>
              <a:t>Demonstration</a:t>
            </a: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2935440"/>
          <a:ext cx="3809880" cy="34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35440"/>
                    <a:ext cx="380988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48320" y="2935440"/>
          <a:ext cx="3809880" cy="34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935440"/>
                    <a:ext cx="3809880" cy="34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5141"/>
                </a:solidFill>
                <a:latin typeface="Trebuchet MS"/>
              </a:rPr>
              <a:t>Participant Concerns</a:t>
            </a: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st to participate in terms of staff time/expense (no budgets or staff time were allocated to the project by participant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Quality of data accuracy and completeness — many wanted to limit the sets of objects that were includ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urity of no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rticipants showed high level of interest and cooper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5141"/>
                </a:solidFill>
                <a:latin typeface="Trebuchet MS"/>
              </a:rPr>
              <a:t>Feedback</a:t>
            </a: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hase 1 participants were unanimously positiv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ny were provoked into considering how they could expand the information they make availab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ny expressed interest in taking the project beyond museum professionals and making it generally available — on their websites, for examp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5141"/>
                </a:solidFill>
                <a:latin typeface="Trebuchet MS"/>
              </a:rPr>
              <a:t>Feedback on Functionality</a:t>
            </a: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llection-level descriptions are need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sire to jump to specific resource records on the publishing institution’s website (don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simple text searching in addition to structured/fielded searching (done in next beta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saurus-assisted searching will increase hits and resolve data content inconsistencies (in proces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andling of multi-lingual data needed (in proces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5141"/>
                </a:solidFill>
                <a:latin typeface="Trebuchet MS"/>
              </a:rPr>
              <a:t>Feedback — Interface and Node Specifics</a:t>
            </a: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sire for configurable interfa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quest to increase the number of objects returned in a given batch, and option to request all remaining objects if under a certain numb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bility to set the limit on how many objects are returned on a node-by-node basi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ing support for MySQL on node will help keep costs down (don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5141"/>
                </a:solidFill>
                <a:latin typeface="Trebuchet MS"/>
              </a:rPr>
              <a:t>Feedback — Ideas for Future Phases</a:t>
            </a: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sire to expand data elements available for searching, such as conservation da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quest for data that may be secure and only available to a select group based on ro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sire to make Distributed Search a platform for collaboration on investigating issues of mutual concern and assisting one another when there is knowledge in one or more institutions that can benefit oth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5141"/>
                </a:solidFill>
                <a:latin typeface="Trebuchet MS"/>
              </a:rPr>
              <a:t>Findings and Impressions</a:t>
            </a: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erformance better than anticipated - expected to improv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550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istributed architecture works, will require commitment by participants to maintain their nodes (could be part of website maintenance and workflow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550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intenance of schemas and mapping will need to be highly automated to allow scalabil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550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esearch needed in relevance ranking of merged result set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550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ethods to create collection-level summaries are needed to give users summary view of available resourc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550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ere is broad interest in Phase 2 of the projec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5141"/>
                </a:solidFill>
                <a:latin typeface="Trebuchet MS"/>
              </a:rPr>
              <a:t>Plans for Phase 2</a:t>
            </a: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re than double the number of participating collections and expand the number of individuals test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pand project internationall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d ability to save and recall static lists between sessions (like My Collections in eMuseum and Object Packages in TM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d ability to save search criter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d ability for users to make saved lists available to oth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d ability to export data to CIS or POD view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prove installation and configuration of nod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prove workflow for upgrading the software on nod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pand tools to create and validate metadata snapsho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5141"/>
                </a:solidFill>
                <a:latin typeface="Trebuchet MS"/>
              </a:rPr>
              <a:t>More Plans</a:t>
            </a: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 support for CDWA Lite data schem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 support for OAI Metadata Harvesting Protocol either through individual node support or at central server 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This will imply adding Dublin Core element set as an additionally supported data schema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5141"/>
                </a:solidFill>
                <a:latin typeface="Trebuchet MS"/>
              </a:rPr>
              <a:t>Who We Are</a:t>
            </a: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allery Systems provides core softw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d consulting services to more than 60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ultural institu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ur software helps museums organize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vide access to their collections inform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 are community-minded and well-position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contribute knowledge in resource discove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5141"/>
                </a:solidFill>
                <a:latin typeface="Trebuchet MS"/>
              </a:rPr>
              <a:t>Contact</a:t>
            </a: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Jay Hoffma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Gallery Systems, Inc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jay@gallerysystems.c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http://gallerysystems.co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5141"/>
                </a:solidFill>
                <a:latin typeface="Trebuchet MS"/>
              </a:rPr>
              <a:t>Overview</a:t>
            </a: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tributed Search Pilot Project descrip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ject relevance, technology, architectu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rticipant concer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hase 1 feedback, findings, impress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lans for Phase 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5141"/>
                </a:solidFill>
                <a:latin typeface="Trebuchet MS"/>
              </a:rPr>
              <a:t>Distributed Search Pilot Project</a:t>
            </a:r>
            <a:r>
              <a:rPr b="1" lang="en-US" sz="2800" spc="-1" strike="noStrike">
                <a:solidFill>
                  <a:srgbClr val="3a5141"/>
                </a:solidFill>
                <a:latin typeface="Trebuchet MS"/>
              </a:rPr>
              <a:t>	</a:t>
            </a: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hase 1 tested the technical and practical application of cross-collection searching of metadata in a distributed architectu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nded audiences: curators, collec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nagers, website developers, registrar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ther museum profession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hase 2 will expand number of participan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d test new featur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5141"/>
                </a:solidFill>
                <a:latin typeface="Trebuchet MS"/>
              </a:rPr>
              <a:t>Project Relevance</a:t>
            </a: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lients expressed interest in collaborating to share information with colleagu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urce discovery depends on accessi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 metadata – “unlocking collections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ploring standards and data consistency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rged data sets will improve our understand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d search resul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aving a critical mass of data in a single “place”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ful for resource discove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5141"/>
                </a:solidFill>
                <a:latin typeface="Trebuchet MS"/>
              </a:rPr>
              <a:t>Technology and Architecture</a:t>
            </a: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ruly distributed architectu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sed on W3C Web Services over htt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pplications written in Jav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s other standards such as JDBC, XML, SOAP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d Apache Tomcat application serv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 data harvesting or caching necessa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5141"/>
                </a:solidFill>
                <a:latin typeface="Trebuchet MS"/>
              </a:rPr>
              <a:t>Collections Participating in Phase 1</a:t>
            </a: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troit Institute of A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orge Eastman Hou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arvard University Art Museu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rnational Center of Photograph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. Paul Getty Museu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tropolitan Museum of A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aint Louis Art Museu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ithsonian American Art Museu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ithsonian National Portrait Galle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Yale University Art Galle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9720" y="1666800"/>
            <a:ext cx="840276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5141"/>
                </a:solidFill>
                <a:latin typeface="Trebuchet MS"/>
              </a:rPr>
              <a:t>Challenges</a:t>
            </a:r>
            <a:endParaRPr b="1" lang="en-US" sz="2800" spc="-1" strike="noStrike">
              <a:solidFill>
                <a:srgbClr val="3a5141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ck of data content and data schema standar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ten, brevity of descriptions of objects limits searchable inform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ck of concerted effort of indexing objects using controlled vocabular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8023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tadata had to be generated from underlying catalogue recor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7:37:08Z</dcterms:created>
  <dc:creator>Nina Villavicencio</dc:creator>
  <dc:description/>
  <dc:language>en-US</dc:language>
  <cp:lastModifiedBy>Jay Hoffman</cp:lastModifiedBy>
  <dcterms:modified xsi:type="dcterms:W3CDTF">2006-02-17T15:32:18Z</dcterms:modified>
  <cp:revision>68</cp:revision>
  <dc:subject/>
  <dc:title>PowerPoint Presentation</dc:title>
</cp:coreProperties>
</file>