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F103-13E8-4002-9872-3AD442E6F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w path period when a new technology is put to old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ere we reconceived the way we do things and experiment with new solutions.  In this phase there’s less certainty and more risk.  Saffo states this is the period in which “everyone with a crazy idea runs around pursuing their dreams on a shoestring bud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final stage is one where we sort out the creative chaos of second stage, paving the way for full integration into society.  Big business buys out stage 2 skunkworks, adds money, marketing and lawy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2B4DA-205A-4747-AD01-4701BFE73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7E057-2084-4959-A8C0-7E2D5CE93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7E121-DDEA-49C3-95BC-072DD0241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9341E-E6BA-4E77-AAA1-0FF7B7BBE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669B7-F152-43EA-9403-6AE6D6177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7D49F-0AAF-49B0-99D3-8FDBC81D4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2CEDC-9EEE-4858-B9C7-B247E58F1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654B1-0148-4E0B-9616-D772F1046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435B0-3B26-44F2-A443-0F2CAD71B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5A486-1469-4318-AFAC-A3EE7E1BD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683DF-F6D1-4B0C-92ED-F81387C41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640F8-8F63-4382-90A9-4E776009B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9B2D2-8314-44CA-8C82-4B39B80ED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AE4F3-C834-4B3C-8550-E2D5ECE32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83E11-F204-4C55-9B7D-D82AB5BFA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278AA-E55C-4D4D-A7EC-D899DCC2A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5A030-0FCB-42C7-ABF0-E6553D077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B3439-AEF4-4186-B5A8-33F613AC1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7AC30-FAAF-40CC-BD67-A57B5B0BD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A0631-9487-4E95-98E7-8DBA6996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C9F7D-2F87-485A-B0E2-C31A7C6D2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8A82B-7FA5-4B18-AD9C-3FCC0A88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18F78-E503-4EE2-AA57-305C6937F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254E-3C63-4516-BB38-4E890BDCC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F232-158D-4390-BBBE-FB67CD2C2C5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204D-9A7A-4571-AAF5-0F443955129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Inspiring Discovery: Uncovering Collections</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Wise 2006</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ebruary 17, 2006</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o …</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t’s not taking us 30 years, we’re less than 15 years into the digital revolution</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 are moving to full integration, with technological support, metadata is coming along, but</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re are we on issues of organizational structure, rights and digital preservation?</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ea typeface="宋体"/>
              </a:rPr>
              <a:t>Adoption of truly new ideas</a:t>
            </a:r>
            <a:r>
              <a:rPr b="0" lang="en-US" sz="3600" spc="-1" strike="noStrike">
                <a:solidFill>
                  <a:srgbClr val="006666"/>
                </a:solidFill>
                <a:latin typeface="Arial"/>
                <a:ea typeface="宋体"/>
              </a:rPr>
              <a:t> </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宋体"/>
              </a:rPr>
              <a:t>“</a:t>
            </a:r>
            <a:r>
              <a:rPr b="0" lang="en-US" sz="2900" spc="-1" strike="noStrike">
                <a:solidFill>
                  <a:srgbClr val="000000"/>
                </a:solidFill>
                <a:latin typeface="Verdana"/>
                <a:ea typeface="宋体"/>
              </a:rPr>
              <a:t>Cowpath” decade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宋体"/>
              </a:rPr>
              <a:t>“</a:t>
            </a:r>
            <a:r>
              <a:rPr b="0" lang="en-US" sz="2900" spc="-1" strike="noStrike">
                <a:solidFill>
                  <a:srgbClr val="000000"/>
                </a:solidFill>
                <a:latin typeface="Verdana"/>
                <a:ea typeface="宋体"/>
              </a:rPr>
              <a:t>Creative skunkworks” decade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宋体"/>
              </a:rPr>
              <a:t> “</a:t>
            </a:r>
            <a:r>
              <a:rPr b="0" lang="en-US" sz="2900" spc="-1" strike="noStrike">
                <a:solidFill>
                  <a:srgbClr val="000000"/>
                </a:solidFill>
                <a:latin typeface="Verdana"/>
                <a:ea typeface="宋体"/>
              </a:rPr>
              <a:t>full integration” decad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宋体"/>
              </a:rPr>
              <a:t>	</a:t>
            </a:r>
            <a:r>
              <a:rPr b="0" lang="en-US" sz="2900" spc="-1" strike="noStrike">
                <a:solidFill>
                  <a:srgbClr val="000000"/>
                </a:solidFill>
                <a:latin typeface="Verdana"/>
                <a:ea typeface="宋体"/>
              </a:rPr>
              <a:t>	</a:t>
            </a:r>
            <a:r>
              <a:rPr b="0" i="1" lang="en-US" sz="2400" spc="-1" strike="noStrike">
                <a:solidFill>
                  <a:srgbClr val="000000"/>
                </a:solidFill>
                <a:latin typeface="Verdana"/>
                <a:ea typeface="宋体"/>
              </a:rPr>
              <a:t>Paul Saffo, Institute of the Futur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ome thoughts from yesterday as it relates to Saffo’s decades</a:t>
            </a:r>
            <a:endParaRPr b="0" lang="en-US" sz="32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wpath’s—we’ve trode those paths, and there are others behind us—how can assure that they avoid making the same mistake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reative skunkworks—We’re still in this stage--in all aspects. Google project first efforts to move us to mass productio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ull integration—Leading edge examples of integration, but organizationally we’re not making the change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 how has/is this manifesting itself in metadata</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85345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8088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00:48:26Z</dcterms:created>
  <dc:creator>CU</dc:creator>
  <dc:description/>
  <dc:language>en-US</dc:language>
  <cp:lastModifiedBy>CU</cp:lastModifiedBy>
  <dcterms:modified xsi:type="dcterms:W3CDTF">2006-02-17T16:34:30Z</dcterms:modified>
  <cp:revision>3</cp:revision>
  <dc:subject/>
  <dc:title>Inspiring Discovery: Uncovering Collections</dc:title>
</cp:coreProperties>
</file>