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F48-FCDA-4FBF-A6FF-53832805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F90-7E80-4B82-A1BF-F9998B4B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7CC-429B-4DA7-B19D-B866E927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897-7CD3-4C34-B471-664895EC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646D-0D87-43D9-9246-60A4FE2F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7623-E927-42ED-8D52-368FF1B4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82FE-22DB-429D-8DF7-11F1BA34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647A-E0B2-43FE-8B20-4D701457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D308-6D24-4A48-801B-F6E70266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B58B-CF74-4F41-989D-44CFD576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47E7-30A9-47FA-A640-825F0D61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029-849D-476A-8CE2-105B9589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D907-546E-4349-8787-961B133F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84D-C795-49A2-B7F4-7B53DF7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F536-DA0F-4F8D-9706-685F0935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58FF-2A4A-483E-A562-FA47E456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F720-4BA5-4574-8AD4-B139B9E1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2C5-F7A8-4615-9AC7-F022E155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E19-0448-4944-B028-F38D0662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E9B-CC31-453D-B8BA-621AC01E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B75-D682-4188-A804-839ED948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C43-CAFB-41B5-BE60-2A6EBE8F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861-96C6-4980-82A5-521759C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01A-70A5-43C0-9D80-651E1C5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B67A-6136-40DC-8DE8-4AE3499E16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848-1841-4651-872A-9549977D18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data for You and M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Towar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hareable Metadat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ah Shre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Illinois at Urbana-Ch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Wise 2006 February 16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 of provenance and reliability (tr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understanding of what’s worth putting effort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back remediated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that our vendors incorporate standards and give us the control to enable more shareable metadata (and cont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Last Wor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beginning to explore how to share metadata for the digitized collections, and have very good technical solutions, but this has not yet matured into a well understood set of services. This is one aspect of what I meant when I said that this activity was in the 'cottage industry' stag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264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can Demp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0264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5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0264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rweblog.oclc.org/archives/00060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057400" cy="82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257800" y="380880"/>
            <a:ext cx="1838160" cy="80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934320" y="2286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772400" y="4952880"/>
            <a:ext cx="685800" cy="1209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28600" y="1905120"/>
            <a:ext cx="1762200" cy="590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3732840"/>
            <a:ext cx="16765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8" idx="0"/>
            <a:endCxn id="99" idx="2"/>
          </p:cNvCxnSpPr>
          <p:nvPr/>
        </p:nvCxnSpPr>
        <p:spPr>
          <a:xfrm flipV="1">
            <a:off x="5810400" y="1189800"/>
            <a:ext cx="36720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8" idx="3"/>
            <a:endCxn id="100" idx="0"/>
          </p:cNvCxnSpPr>
          <p:nvPr/>
        </p:nvCxnSpPr>
        <p:spPr>
          <a:xfrm>
            <a:off x="6286680" y="2085840"/>
            <a:ext cx="106272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8" idx="2"/>
            <a:endCxn id="107" idx="0"/>
          </p:cNvCxnSpPr>
          <p:nvPr/>
        </p:nvCxnSpPr>
        <p:spPr>
          <a:xfrm>
            <a:off x="5810400" y="2419200"/>
            <a:ext cx="118080" cy="13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8" idx="3"/>
            <a:endCxn id="101" idx="1"/>
          </p:cNvCxnSpPr>
          <p:nvPr/>
        </p:nvCxnSpPr>
        <p:spPr>
          <a:xfrm>
            <a:off x="6286320" y="2085840"/>
            <a:ext cx="1486440" cy="347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467480" y="228600"/>
            <a:ext cx="1371600" cy="26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7772400" y="609480"/>
            <a:ext cx="1066680" cy="541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2590920" y="228600"/>
            <a:ext cx="215100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1828800" y="4648320"/>
            <a:ext cx="3065400" cy="2058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4952880" y="3733920"/>
            <a:ext cx="1947960" cy="439560"/>
          </a:xfrm>
          <a:prstGeom prst="rect">
            <a:avLst/>
          </a:prstGeom>
          <a:ln w="0">
            <a:noFill/>
          </a:ln>
        </p:spPr>
      </p:pic>
      <p:cxnSp>
        <p:nvCxnSpPr>
          <p:cNvPr id="114" name=""/>
          <p:cNvCxnSpPr>
            <a:stCxn id="111" idx="2"/>
            <a:endCxn id="112" idx="0"/>
          </p:cNvCxnSpPr>
          <p:nvPr/>
        </p:nvCxnSpPr>
        <p:spPr>
          <a:xfrm flipH="1">
            <a:off x="3362040" y="3543120"/>
            <a:ext cx="30528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1" idx="3"/>
            <a:endCxn id="98" idx="1"/>
          </p:cNvCxnSpPr>
          <p:nvPr/>
        </p:nvCxnSpPr>
        <p:spPr>
          <a:xfrm>
            <a:off x="4741560" y="1885680"/>
            <a:ext cx="59292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16" name=""/>
          <p:cNvGraphicFramePr/>
          <p:nvPr/>
        </p:nvGraphicFramePr>
        <p:xfrm>
          <a:off x="5638680" y="5105520"/>
          <a:ext cx="838440" cy="744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38680" y="5105520"/>
                    <a:ext cx="838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18" name=""/>
          <p:cNvCxnSpPr>
            <a:stCxn id="113" idx="2"/>
          </p:cNvCxnSpPr>
          <p:nvPr/>
        </p:nvCxnSpPr>
        <p:spPr>
          <a:xfrm>
            <a:off x="5927760" y="4173120"/>
            <a:ext cx="131040" cy="9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9" idx="3"/>
            <a:endCxn id="109" idx="1"/>
          </p:cNvCxnSpPr>
          <p:nvPr/>
        </p:nvCxnSpPr>
        <p:spPr>
          <a:xfrm flipV="1">
            <a:off x="7095960" y="358560"/>
            <a:ext cx="37224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99" idx="3"/>
            <a:endCxn id="110" idx="1"/>
          </p:cNvCxnSpPr>
          <p:nvPr/>
        </p:nvCxnSpPr>
        <p:spPr>
          <a:xfrm>
            <a:off x="7095600" y="785880"/>
            <a:ext cx="67716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endCxn id="103" idx="2"/>
          </p:cNvCxnSpPr>
          <p:nvPr/>
        </p:nvCxnSpPr>
        <p:spPr>
          <a:xfrm flipH="1" flipV="1">
            <a:off x="1294920" y="4435200"/>
            <a:ext cx="991440" cy="89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1"/>
            <a:endCxn id="102" idx="3"/>
          </p:cNvCxnSpPr>
          <p:nvPr/>
        </p:nvCxnSpPr>
        <p:spPr>
          <a:xfrm flipH="1">
            <a:off x="1990080" y="1885680"/>
            <a:ext cx="60084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1"/>
            <a:endCxn id="97" idx="3"/>
          </p:cNvCxnSpPr>
          <p:nvPr/>
        </p:nvCxnSpPr>
        <p:spPr>
          <a:xfrm flipH="1" flipV="1">
            <a:off x="2057040" y="715680"/>
            <a:ext cx="534240" cy="11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98" idx="3"/>
            <a:endCxn id="125" idx="1"/>
          </p:cNvCxnSpPr>
          <p:nvPr/>
        </p:nvCxnSpPr>
        <p:spPr>
          <a:xfrm flipV="1">
            <a:off x="6286320" y="1798200"/>
            <a:ext cx="15627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7848720" y="1600200"/>
            <a:ext cx="1006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7743960" y="3200400"/>
            <a:ext cx="1400040" cy="1200240"/>
          </a:xfrm>
          <a:prstGeom prst="rect">
            <a:avLst/>
          </a:prstGeom>
          <a:ln w="0">
            <a:noFill/>
          </a:ln>
        </p:spPr>
      </p:pic>
      <p:cxnSp>
        <p:nvCxnSpPr>
          <p:cNvPr id="127" name=""/>
          <p:cNvCxnSpPr>
            <a:stCxn id="100" idx="3"/>
            <a:endCxn id="126" idx="0"/>
          </p:cNvCxnSpPr>
          <p:nvPr/>
        </p:nvCxnSpPr>
        <p:spPr>
          <a:xfrm>
            <a:off x="7762680" y="2700000"/>
            <a:ext cx="68148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8154720" y="3733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1440" y="6035760"/>
            <a:ext cx="167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hotograph from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arles W. Cushman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gregations Aplen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and content appearing in lots and lots of places – open web, subscription databases, specialized aggregations, general aggrega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4038480"/>
            <a:ext cx="77724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LG Cultural Materials Online * National Science Digital Library * IMLS Digital Collections and Content * New Jersey Digital Highway * Sheet Music Consortium * Digital Library Federation MODS Portal * Online Archive of California * CIC Metadata Portal * Heritage Colorado * Picture Australia * Maine Memory Network * American West * OAIster * Louisiana Digital Library * Central Florida Memory * Connecticut History Online * Illinois Digital Archive * Global Performing Arts Databa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t what are we (aggregators) doing with that metadat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ily simple aggre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ily search and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build smart aggreg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requires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ke our data work hard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l credit to Lorcan Demps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38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7010280" y="0"/>
            <a:ext cx="106704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181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114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3526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209680"/>
            <a:ext cx="457200" cy="838440"/>
          </a:xfrm>
          <a:prstGeom prst="downArrow">
            <a:avLst>
              <a:gd name="adj1" fmla="val 50000"/>
              <a:gd name="adj2" fmla="val 458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2960" y="239760"/>
            <a:ext cx="69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from DLF MODS Portal in Amazon’s A9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can aggregators do to enable shareable metadata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ways to navigate aggr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aggr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ent foc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dience foc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rvices foc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d share tools and services that make the data work ha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data remediation and normal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orporating collection description and other contextual in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27360" y="0"/>
            <a:ext cx="6416640" cy="6667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94216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ported by an IMLS grant to the Digital Library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66680"/>
            <a:ext cx="2530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Effor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till the Experi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OAI service and da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r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areable Metadat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quality metad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Bruce and Hillma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s (at the least) human understandable outside of its loc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ably is machine process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appropriate view of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search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bility to perform a search over diverse sets of metadata records and obtain meaningful results.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Priscilla Capl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s useful outside of its local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Can we build something off of it?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516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Five C’s (and lots of S’s) of Shareable Meta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4678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standar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and encod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content standar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9:27:29Z</dcterms:created>
  <dc:creator>Sarah L. Shreeves</dc:creator>
  <dc:description/>
  <dc:language>en-US</dc:language>
  <cp:lastModifiedBy>Sarah L. Shreeves</cp:lastModifiedBy>
  <dcterms:modified xsi:type="dcterms:W3CDTF">2006-02-16T19:45:41Z</dcterms:modified>
  <cp:revision>57</cp:revision>
  <dc:subject/>
  <dc:title>Metadata for You and Me: Moving Towards  More Shareable Metadata</dc:title>
</cp:coreProperties>
</file>