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B28-2095-4A7F-A620-768858EA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75A-2F89-49C7-8247-E18E6F29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83E-F790-43BF-92EF-3ADCBA4B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473-77F7-41E5-A813-15EFEB7A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928-3183-4AE7-AB90-28C2BD17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5D4-15B6-4507-8830-682823C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18D-F410-4774-BB31-EE53E22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7A0-0DD3-41E2-B7A6-ADBDFC80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D84-57CB-4F9A-B356-E4FCF241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4CD-E20B-4809-9818-D7986EB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9AF-DA9A-4256-9D02-41E7E902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EDD-1862-4B48-97B0-1D1CB41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E63D-3997-4A9C-BC95-A6F0E590D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_webwise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08760" cy="99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2133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The Metadata is the Message: Issues and Challenges for Digital Projects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_webwise" descr=""/>
          <p:cNvPicPr/>
          <p:nvPr/>
        </p:nvPicPr>
        <p:blipFill>
          <a:blip r:embed="rId1"/>
          <a:stretch/>
        </p:blipFill>
        <p:spPr>
          <a:xfrm>
            <a:off x="5791320" y="6097680"/>
            <a:ext cx="3124080" cy="608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estions &amp;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Why are we doing this in the first pla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What work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What doesn’t work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What are some established best practic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What should be the balance of responsibilities betw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Verdana"/>
              </a:rPr>
              <a:t>data providers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Verdana"/>
              </a:rPr>
              <a:t>service providers/aggregators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7:10:29Z</dcterms:created>
  <dc:creator>JPGT</dc:creator>
  <dc:description/>
  <dc:language>en-US</dc:language>
  <cp:lastModifiedBy>matt</cp:lastModifiedBy>
  <dcterms:modified xsi:type="dcterms:W3CDTF">2006-02-16T20:55:06Z</dcterms:modified>
  <cp:revision>5</cp:revision>
  <dc:subject/>
  <dc:title>PowerPoint Presentation</dc:title>
</cp:coreProperties>
</file>