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147A-2621-4887-BAEC-1E991403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3352-16BE-42ED-87C9-1469C737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CB15-B159-4195-B478-D51C960C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A94B-8967-488F-A822-3DC46E39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58F0-2B06-4582-85EB-2224AB9E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361E-D87F-4B5A-BF60-B9E687F4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959A-9E22-452A-B1B0-18071120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98DE-3F57-4515-A195-2A18F05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CDF7-B96C-400F-96A3-C2617693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9748-41FE-4988-A29B-A0A8369B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6FAF-3B61-46D4-A1CC-3A8B951F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5D57-2443-4666-B0BB-B87E524E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FCF1-31A5-4422-B523-11B45F82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7536-C578-4E7C-ABB1-51E3CE46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F095-7683-409D-A30E-B1CFE87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7DCC-D747-4BFB-B357-B03F5FDC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D58A-CFE4-4D78-89C1-8F9C083E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E9F6-9E71-49F3-B463-BCD10156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8614-5AB5-431E-A920-B483E36B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1E80-321D-4FF0-B3C2-CD1522D6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733A-5ED0-4EB4-A79E-CBA7073E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554E-FF99-4195-B78C-28269D03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39B1-50BA-4DA6-B055-45A5D494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B1BD-8014-4711-9A1D-BA227950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C193-14F5-4DC6-855C-F2307A87DD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AD90-321E-4B11-B834-03CE5ED6DC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3720" y="1295280"/>
            <a:ext cx="458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Ever feel your career is like a pinball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Well…when you are bouncing around from pin to pin, it is probably very difficult to know that outside the game there’s a room and outside the room there’s a town and outside the town there’s a country and outside the country there’s a world and outside the world there’s a billion trillion stars and that’s only the start of it…but it’s there, do you see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Once you know about it, you can stop worrying about the slot at the bottom. 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And you might bounce around a good deal longer.</a:t>
            </a:r>
            <a:br>
              <a:rPr sz="2800"/>
            </a:br>
            <a:br>
              <a:rPr sz="2800"/>
            </a:br>
            <a:r>
              <a:rPr b="1" lang="en-US" sz="1200" spc="-1" strike="noStrike">
                <a:solidFill>
                  <a:srgbClr val="e5e5ff"/>
                </a:solidFill>
                <a:latin typeface="Garamond"/>
              </a:rPr>
              <a:t>--Terry Pratchett, </a:t>
            </a:r>
            <a:r>
              <a:rPr b="1" i="1" lang="en-US" sz="1200" spc="-1" strike="noStrike">
                <a:solidFill>
                  <a:srgbClr val="e5e5ff"/>
                </a:solidFill>
                <a:latin typeface="Garamond"/>
              </a:rPr>
              <a:t>Johnny and the Dead</a:t>
            </a:r>
            <a:endParaRPr b="1" lang="en-US" sz="1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736280"/>
            <a:ext cx="784872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If we can remain focused on mission we should be able to calmly ask ourselves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“Does this help us do what we want to do and more or less have always wanted to do?”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 And we will probably find that the answer eventually is, yes it does, but in ways we can only begin to imagine today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5e5ff"/>
                </a:solidFill>
                <a:latin typeface="Arial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Arial"/>
              </a:rPr>
              <a:t>--KEN HAMMA, 1996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Making this conference releva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hard questions of the panel chairs and the speak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new contact, and then committ to contacting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connection – visual, verbal, idealogical and go ba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down that great idea that comes out of this conference then go back and make it happ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What Makes A Conference a Success:  Webwise 2006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 Witche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eveland Museum of A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Great Plann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ughtful, intelligent, lively planning 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ous funding from IML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lightened sponsors in OCLC and the J. Paul Getty T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 Planning’s attention to details and log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is conference is not called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b Show-N-T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b “I got IMLS to pay our image cataloguer’s salary for another year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b – I’m not going to ask the hard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b – I got a mid-winter vacation to L.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t’s called Web “Wise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Knowledge is a process of piling up facts; wisdom lies in their simplific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tin  Fisc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It's so simple to be wise. Just think of something stupid to say and say the opposite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AM LEVENS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Arial"/>
              </a:rPr>
              <a:t>10 years ago</a:t>
            </a:r>
            <a:br>
              <a:rPr sz="5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this room</a:t>
            </a:r>
            <a:br>
              <a:rPr sz="54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on this da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hold and preserve these things for the sake of our own memory is a fundamental cultural necessity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is perspective there is no reason to discriminate against one medium of interpretation and presentation because it poses new difficulties and new opportuni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8:26:42Z</dcterms:created>
  <dc:creator>Holly Witchey</dc:creator>
  <dc:description/>
  <dc:language>en-US</dc:language>
  <cp:lastModifiedBy>Witchey</cp:lastModifiedBy>
  <dcterms:modified xsi:type="dcterms:W3CDTF">2006-02-16T17:29:27Z</dcterms:modified>
  <cp:revision>6</cp:revision>
  <dc:subject/>
  <dc:title>Opening Comments Webwise 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25684501</vt:r8>
  </property>
  <property fmtid="{D5CDD505-2E9C-101B-9397-08002B2CF9AE}" pid="3" name="_AuthorEmail">
    <vt:lpwstr>hwitchey@clevelandart.org</vt:lpwstr>
  </property>
  <property fmtid="{D5CDD505-2E9C-101B-9397-08002B2CF9AE}" pid="4" name="_AuthorEmailDisplayName">
    <vt:lpwstr>Holly Witchey</vt:lpwstr>
  </property>
  <property fmtid="{D5CDD505-2E9C-101B-9397-08002B2CF9AE}" pid="5" name="_EmailSubject">
    <vt:lpwstr>Posting WebWise Presentations</vt:lpwstr>
  </property>
</Properties>
</file>