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DA2-EEEB-4F1F-9BA9-9D21DA60F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4BF6-F93C-4A9B-B4D3-AEDB7C09B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CED3-D86C-4728-9B93-EB2B214C2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FE0B-D908-4894-805D-10ACA7402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369FB-B1CD-41A3-8273-E6D8D2984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91D6-DA33-487D-8A66-B26C4D57E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93938-9192-472D-9EA7-C5FB3903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318D-5005-4913-B5F3-0D2E761B2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0F0E3-DFEE-4F81-9568-F8D92A65A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E472-A08C-4298-84FC-3CD4F7B76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2BB06-BE1E-48CC-B72D-8E1E3C559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71B3-0411-4606-824B-9724D7000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9072-F726-4364-B44E-6336C657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D9ADA-4C56-4170-8C47-D2F8AC6D5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1AA79-9D61-4408-A5C9-1A3027D4F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74017-1B14-465B-BF3C-D786EB67A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4660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937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38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4660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937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01D5F-4804-4BA0-84CE-61C594F28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6A8B-1DAB-43DA-B317-EFA4EB25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89DC-DDD2-47E7-86E7-3E40C3F5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C63F-452C-43EA-9468-05AEB85F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838080" y="34272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0251-6058-441E-A37E-4A691BE0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D802-50FB-4128-9D55-1684EFD7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8207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7349-4576-4B63-A7DE-F2840ABAB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207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380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96EA-658D-4BC6-8556-388D1D3E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880" y="304920"/>
            <a:ext cx="8383680" cy="6022800"/>
            <a:chOff x="380880" y="304920"/>
            <a:chExt cx="8383680" cy="6022800"/>
          </a:xfrm>
        </p:grpSpPr>
        <p:grpSp>
          <p:nvGrpSpPr>
            <p:cNvPr id="1" name=""/>
            <p:cNvGrpSpPr/>
            <p:nvPr/>
          </p:nvGrpSpPr>
          <p:grpSpPr>
            <a:xfrm>
              <a:off x="380880" y="1600200"/>
              <a:ext cx="8383680" cy="4727520"/>
              <a:chOff x="380880" y="1600200"/>
              <a:chExt cx="8383680" cy="4727520"/>
            </a:xfrm>
          </p:grpSpPr>
          <p:sp>
            <p:nvSpPr>
              <p:cNvPr id="2" name=""/>
              <p:cNvSpPr/>
              <p:nvPr/>
            </p:nvSpPr>
            <p:spPr>
              <a:xfrm>
                <a:off x="388800" y="1603440"/>
                <a:ext cx="8364600" cy="4724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38088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0" y="0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99960" y="1600200"/>
                <a:ext cx="8364600" cy="4726080"/>
              </a:xfrm>
              <a:custGeom>
                <a:avLst/>
                <a:gdLst/>
                <a:ahLst/>
                <a:rect l="l" t="t" r="r" b="b"/>
                <a:pathLst>
                  <a:path w="5269" h="2977">
                    <a:moveTo>
                      <a:pt x="5268" y="0"/>
                    </a:moveTo>
                    <a:lnTo>
                      <a:pt x="5268" y="2976"/>
                    </a:lnTo>
                    <a:lnTo>
                      <a:pt x="0" y="297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" name=""/>
            <p:cNvGrpSpPr/>
            <p:nvPr/>
          </p:nvGrpSpPr>
          <p:grpSpPr>
            <a:xfrm>
              <a:off x="533520" y="1751040"/>
              <a:ext cx="153720" cy="4421160"/>
              <a:chOff x="533520" y="1751040"/>
              <a:chExt cx="153720" cy="4421160"/>
            </a:xfrm>
          </p:grpSpPr>
          <p:sp>
            <p:nvSpPr>
              <p:cNvPr id="6" name=""/>
              <p:cNvSpPr/>
              <p:nvPr/>
            </p:nvSpPr>
            <p:spPr>
              <a:xfrm>
                <a:off x="533520" y="1752480"/>
                <a:ext cx="152280" cy="441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96" y="2784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33520" y="1751040"/>
                <a:ext cx="153720" cy="4421160"/>
              </a:xfrm>
              <a:custGeom>
                <a:avLst/>
                <a:gdLst/>
                <a:ahLst/>
                <a:rect l="l" t="t" r="r" b="b"/>
                <a:pathLst>
                  <a:path w="97" h="2785">
                    <a:moveTo>
                      <a:pt x="0" y="2784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380880" y="304920"/>
              <a:ext cx="306360" cy="1144440"/>
              <a:chOff x="380880" y="304920"/>
              <a:chExt cx="306360" cy="1144440"/>
            </a:xfrm>
          </p:grpSpPr>
          <p:sp>
            <p:nvSpPr>
              <p:cNvPr id="10" name=""/>
              <p:cNvSpPr/>
              <p:nvPr/>
            </p:nvSpPr>
            <p:spPr>
              <a:xfrm>
                <a:off x="380880" y="304920"/>
                <a:ext cx="304920" cy="114300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0" y="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80" y="304920"/>
                <a:ext cx="306360" cy="1144440"/>
              </a:xfrm>
              <a:custGeom>
                <a:avLst/>
                <a:gdLst/>
                <a:ahLst/>
                <a:rect l="l" t="t" r="r" b="b"/>
                <a:pathLst>
                  <a:path w="193" h="721">
                    <a:moveTo>
                      <a:pt x="192" y="0"/>
                    </a:moveTo>
                    <a:lnTo>
                      <a:pt x="192" y="720"/>
                    </a:lnTo>
                    <a:lnTo>
                      <a:pt x="0" y="72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Click to edit the title text format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35480" indent="-282960">
              <a:spcBef>
                <a:spcPts val="799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2" marL="1131480" indent="-226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3" marL="1584000" indent="-226080">
              <a:spcBef>
                <a:spcPts val="799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4" marL="2036520" indent="-226080">
              <a:spcBef>
                <a:spcPts val="799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38088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2819520" y="632304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CCA9-8A9A-43B3-AB48-681E924475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55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56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60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64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664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Click to edit the title text format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380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C8ED2-BB6A-4F77-8D0A-D62A8BFF2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990000"/>
                </a:solidFill>
                <a:latin typeface="Cochin"/>
              </a:rPr>
              <a:t>Newspapers Online</a:t>
            </a:r>
            <a:endParaRPr b="1" lang="en-US" sz="5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838080" y="26665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rom Promise to Practical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914400" y="4114800"/>
            <a:ext cx="693432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Victoria McCargar, M.A., ML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mccargar@mac.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Indexing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wo schemes (same terms, different syntax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CR indexing unrelated to existing vocabula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25800" indent="-32580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Buried treasure: millions of clipping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"/>
          <p:cNvSpPr/>
          <p:nvPr/>
        </p:nvSpPr>
        <p:spPr>
          <a:xfrm>
            <a:off x="5164200" y="1752480"/>
            <a:ext cx="3036960" cy="446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410080" y="1897200"/>
            <a:ext cx="259092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8A0E-5C71-4B93-8FA1-D1D94957B92C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806760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606744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56748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706752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"/>
          <p:cNvSpPr/>
          <p:nvPr/>
        </p:nvSpPr>
        <p:spPr>
          <a:xfrm>
            <a:off x="7566120" y="2602080"/>
            <a:ext cx="49824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Page geometry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ontemporary pages: few stories, few headlines, large photographs: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as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Predictabl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tent relationship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ostly clea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"/>
          <p:cNvSpPr/>
          <p:nvPr/>
        </p:nvSpPr>
        <p:spPr>
          <a:xfrm>
            <a:off x="556560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5616720" y="2049480"/>
            <a:ext cx="28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Bugle-Clar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"/>
          <p:cNvSpPr/>
          <p:nvPr/>
        </p:nvSpPr>
        <p:spPr>
          <a:xfrm>
            <a:off x="6064200" y="5470560"/>
            <a:ext cx="503280" cy="6127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"/>
          <p:cNvSpPr/>
          <p:nvPr/>
        </p:nvSpPr>
        <p:spPr>
          <a:xfrm>
            <a:off x="7566120" y="2602080"/>
            <a:ext cx="1000080" cy="6109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8064360" y="3959280"/>
            <a:ext cx="501840" cy="4492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6060960" y="3959280"/>
            <a:ext cx="100332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/>
          <p:nvPr/>
        </p:nvSpPr>
        <p:spPr>
          <a:xfrm>
            <a:off x="7064280" y="3959280"/>
            <a:ext cx="501840" cy="4492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7562880" y="5334120"/>
            <a:ext cx="100332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>
            <a:off x="6567480" y="5468760"/>
            <a:ext cx="496800" cy="13680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"/>
          <p:cNvSpPr/>
          <p:nvPr/>
        </p:nvSpPr>
        <p:spPr>
          <a:xfrm>
            <a:off x="5565600" y="2602080"/>
            <a:ext cx="501840" cy="4489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"/>
          <p:cNvSpPr/>
          <p:nvPr/>
        </p:nvSpPr>
        <p:spPr>
          <a:xfrm>
            <a:off x="5565600" y="1968480"/>
            <a:ext cx="3000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"/>
          <p:cNvSpPr/>
          <p:nvPr/>
        </p:nvSpPr>
        <p:spPr>
          <a:xfrm>
            <a:off x="6064200" y="2602080"/>
            <a:ext cx="1501920" cy="135720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9847-7141-4824-A904-E5584AA53140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Page geometry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re-1960s pages: Lots of storie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Small headline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ombstones’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ontent relationships not obviou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"/>
          <p:cNvSpPr/>
          <p:nvPr/>
        </p:nvSpPr>
        <p:spPr>
          <a:xfrm>
            <a:off x="5565600" y="2602080"/>
            <a:ext cx="34956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5915160" y="2602080"/>
            <a:ext cx="3492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/>
          <p:nvPr/>
        </p:nvSpPr>
        <p:spPr>
          <a:xfrm>
            <a:off x="6264360" y="2602080"/>
            <a:ext cx="3492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"/>
          <p:cNvSpPr/>
          <p:nvPr/>
        </p:nvSpPr>
        <p:spPr>
          <a:xfrm>
            <a:off x="6613560" y="2602080"/>
            <a:ext cx="3492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6962760" y="2602080"/>
            <a:ext cx="3492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>
            <a:off x="7311960" y="2602080"/>
            <a:ext cx="3492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61160" y="2602080"/>
            <a:ext cx="3492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8010360" y="2602080"/>
            <a:ext cx="34956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5915160" y="2602080"/>
            <a:ext cx="698400" cy="88560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>
            <a:off x="7661160" y="2876400"/>
            <a:ext cx="349200" cy="39708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6962760" y="2602080"/>
            <a:ext cx="349200" cy="4489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5915160" y="3487680"/>
            <a:ext cx="69840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5565600" y="2604960"/>
            <a:ext cx="34956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311960" y="2604960"/>
            <a:ext cx="104796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6613560" y="2602080"/>
            <a:ext cx="349200" cy="2743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5568840" y="3962520"/>
            <a:ext cx="34920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6616800" y="3959280"/>
            <a:ext cx="349200" cy="2746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7661160" y="3759120"/>
            <a:ext cx="349200" cy="2746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8010360" y="4095720"/>
            <a:ext cx="349560" cy="2746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311960" y="3687840"/>
            <a:ext cx="349200" cy="2746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6966000" y="4370400"/>
            <a:ext cx="349200" cy="2746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6264360" y="4249800"/>
            <a:ext cx="34920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5568840" y="4645080"/>
            <a:ext cx="34920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5568840" y="5327640"/>
            <a:ext cx="34920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5568840" y="5756400"/>
            <a:ext cx="34920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5918040" y="4916520"/>
            <a:ext cx="34956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267600" y="4670280"/>
            <a:ext cx="349200" cy="1018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67600" y="5018040"/>
            <a:ext cx="34920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"/>
          <p:cNvSpPr/>
          <p:nvPr/>
        </p:nvSpPr>
        <p:spPr>
          <a:xfrm>
            <a:off x="6264360" y="5365800"/>
            <a:ext cx="34920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6264360" y="5713560"/>
            <a:ext cx="34920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918040" y="5467320"/>
            <a:ext cx="34956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5918040" y="5865840"/>
            <a:ext cx="34956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311960" y="4670280"/>
            <a:ext cx="349200" cy="1018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311960" y="5068800"/>
            <a:ext cx="34920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7311960" y="5467320"/>
            <a:ext cx="34920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7311960" y="5865840"/>
            <a:ext cx="34920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8010360" y="4619520"/>
            <a:ext cx="349560" cy="1018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8010360" y="5170320"/>
            <a:ext cx="349560" cy="1018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8010360" y="5568840"/>
            <a:ext cx="349560" cy="1018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8010360" y="5807160"/>
            <a:ext cx="34956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6613560" y="5154480"/>
            <a:ext cx="349200" cy="1018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6613560" y="5775480"/>
            <a:ext cx="34920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6966000" y="4967280"/>
            <a:ext cx="34920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5565600" y="1981080"/>
            <a:ext cx="279432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5667480" y="1930320"/>
            <a:ext cx="256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dwardian Script ITC"/>
              </a:rPr>
              <a:t>The Bug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296-B1E1-461D-B3EC-D9FE18915E74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Page geometry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Unintentional text aggreg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Clubbing’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Multiple stories indexed as on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Requires extensive manual text entry to resolv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"/>
          <p:cNvSpPr/>
          <p:nvPr/>
        </p:nvSpPr>
        <p:spPr>
          <a:xfrm>
            <a:off x="5565600" y="2602080"/>
            <a:ext cx="34956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5915160" y="2602080"/>
            <a:ext cx="3492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64360" y="2602080"/>
            <a:ext cx="3492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6613560" y="2602080"/>
            <a:ext cx="3492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"/>
          <p:cNvSpPr/>
          <p:nvPr/>
        </p:nvSpPr>
        <p:spPr>
          <a:xfrm>
            <a:off x="6962760" y="2602080"/>
            <a:ext cx="3492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7311960" y="2602080"/>
            <a:ext cx="3492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7661160" y="2602080"/>
            <a:ext cx="3492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"/>
          <p:cNvSpPr/>
          <p:nvPr/>
        </p:nvSpPr>
        <p:spPr>
          <a:xfrm>
            <a:off x="8010360" y="2602080"/>
            <a:ext cx="34956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5667480" y="1930320"/>
            <a:ext cx="2565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dwardian Script ITC"/>
              </a:rPr>
              <a:t>The Bug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"/>
          <p:cNvSpPr/>
          <p:nvPr/>
        </p:nvSpPr>
        <p:spPr>
          <a:xfrm>
            <a:off x="5915160" y="2602080"/>
            <a:ext cx="698400" cy="88560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61160" y="2876400"/>
            <a:ext cx="349200" cy="39708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6962760" y="2602080"/>
            <a:ext cx="349200" cy="4489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5565600" y="2604960"/>
            <a:ext cx="34956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311960" y="2604960"/>
            <a:ext cx="104796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6613560" y="2602080"/>
            <a:ext cx="349200" cy="2743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5568840" y="3962520"/>
            <a:ext cx="34920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7661160" y="3759120"/>
            <a:ext cx="349200" cy="2746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8010360" y="4095720"/>
            <a:ext cx="349560" cy="2746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7311960" y="3687840"/>
            <a:ext cx="349200" cy="2746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6966000" y="4370400"/>
            <a:ext cx="349200" cy="2746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"/>
          <p:cNvSpPr/>
          <p:nvPr/>
        </p:nvSpPr>
        <p:spPr>
          <a:xfrm>
            <a:off x="6264360" y="4249800"/>
            <a:ext cx="34920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6267600" y="4670280"/>
            <a:ext cx="349200" cy="1018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7311960" y="4670280"/>
            <a:ext cx="349200" cy="1018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"/>
          <p:cNvSpPr/>
          <p:nvPr/>
        </p:nvSpPr>
        <p:spPr>
          <a:xfrm>
            <a:off x="8010360" y="4619520"/>
            <a:ext cx="349560" cy="1018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"/>
          <p:cNvSpPr/>
          <p:nvPr/>
        </p:nvSpPr>
        <p:spPr>
          <a:xfrm>
            <a:off x="8010360" y="5170320"/>
            <a:ext cx="349560" cy="1018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>
            <a:off x="8010360" y="5568840"/>
            <a:ext cx="349560" cy="10188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8010360" y="5807160"/>
            <a:ext cx="34956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>
            <a:off x="5911920" y="3487680"/>
            <a:ext cx="352440" cy="258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6272280" y="3487680"/>
            <a:ext cx="352440" cy="25830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6624720" y="3960720"/>
            <a:ext cx="352440" cy="210816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"/>
          <p:cNvSpPr/>
          <p:nvPr/>
        </p:nvSpPr>
        <p:spPr>
          <a:xfrm>
            <a:off x="6977160" y="5016600"/>
            <a:ext cx="352440" cy="10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7329600" y="5067360"/>
            <a:ext cx="352440" cy="10015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5568840" y="5327640"/>
            <a:ext cx="34920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5568840" y="5756400"/>
            <a:ext cx="349200" cy="1015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5581800" y="1981080"/>
            <a:ext cx="279396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0FD3-FC51-4326-80D9-2AB3AD2D0E69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06760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606744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56748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"/>
          <p:cNvSpPr/>
          <p:nvPr/>
        </p:nvSpPr>
        <p:spPr>
          <a:xfrm>
            <a:off x="706752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7566120" y="2602080"/>
            <a:ext cx="49824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Copyright and the record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asini vs. N.Y. Times et al. (2001)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Film is a representation of the original cont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Electronic databases are a wholly new form, $ to creators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727920" indent="-280080">
              <a:spcBef>
                <a:spcPts val="601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No rights metadata ≤199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"/>
          <p:cNvSpPr/>
          <p:nvPr/>
        </p:nvSpPr>
        <p:spPr>
          <a:xfrm>
            <a:off x="556560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5616720" y="2049480"/>
            <a:ext cx="28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gle Tra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"/>
          <p:cNvSpPr/>
          <p:nvPr/>
        </p:nvSpPr>
        <p:spPr>
          <a:xfrm>
            <a:off x="6064200" y="2602080"/>
            <a:ext cx="2502000" cy="135720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"/>
          <p:cNvSpPr/>
          <p:nvPr/>
        </p:nvSpPr>
        <p:spPr>
          <a:xfrm>
            <a:off x="5557680" y="5207040"/>
            <a:ext cx="503280" cy="61272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"/>
          <p:cNvSpPr/>
          <p:nvPr/>
        </p:nvSpPr>
        <p:spPr>
          <a:xfrm>
            <a:off x="6060960" y="3959280"/>
            <a:ext cx="250524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"/>
          <p:cNvSpPr/>
          <p:nvPr/>
        </p:nvSpPr>
        <p:spPr>
          <a:xfrm>
            <a:off x="6568920" y="5189400"/>
            <a:ext cx="149868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6060960" y="5205240"/>
            <a:ext cx="497160" cy="13680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559480" y="2602080"/>
            <a:ext cx="501480" cy="4489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"/>
          <p:cNvSpPr/>
          <p:nvPr/>
        </p:nvSpPr>
        <p:spPr>
          <a:xfrm>
            <a:off x="5565600" y="1968480"/>
            <a:ext cx="3000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"/>
          <p:cNvSpPr/>
          <p:nvPr/>
        </p:nvSpPr>
        <p:spPr>
          <a:xfrm>
            <a:off x="8062920" y="5189400"/>
            <a:ext cx="503280" cy="613080"/>
          </a:xfrm>
          <a:prstGeom prst="rect">
            <a:avLst/>
          </a:prstGeom>
          <a:solidFill>
            <a:srgbClr val="a5002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8F01-788C-4281-BE80-CCBBDA253BA9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06760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606744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>
            <a:off x="656748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"/>
          <p:cNvSpPr/>
          <p:nvPr/>
        </p:nvSpPr>
        <p:spPr>
          <a:xfrm>
            <a:off x="7067520" y="2602080"/>
            <a:ext cx="49860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7566120" y="2602080"/>
            <a:ext cx="498240" cy="3481200"/>
          </a:xfrm>
          <a:prstGeom prst="rect">
            <a:avLst/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Copyright and the record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icrofilm PDF: O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dividual articles: not O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Default action when rights aren’t clear: Block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Massive effort to identify creator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8" name=""/>
          <p:cNvSpPr/>
          <p:nvPr/>
        </p:nvSpPr>
        <p:spPr>
          <a:xfrm>
            <a:off x="5565600" y="2602080"/>
            <a:ext cx="498600" cy="348120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"/>
          <p:cNvSpPr/>
          <p:nvPr/>
        </p:nvSpPr>
        <p:spPr>
          <a:xfrm>
            <a:off x="5616720" y="2049480"/>
            <a:ext cx="28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ugle Tra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6064200" y="2602080"/>
            <a:ext cx="2502000" cy="13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5557680" y="5207040"/>
            <a:ext cx="503280" cy="6127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6060960" y="3959280"/>
            <a:ext cx="250524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"/>
          <p:cNvSpPr/>
          <p:nvPr/>
        </p:nvSpPr>
        <p:spPr>
          <a:xfrm>
            <a:off x="6568920" y="5189400"/>
            <a:ext cx="1498680" cy="27144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6060960" y="5205240"/>
            <a:ext cx="497160" cy="13680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"/>
          <p:cNvSpPr/>
          <p:nvPr/>
        </p:nvSpPr>
        <p:spPr>
          <a:xfrm>
            <a:off x="5559480" y="2602080"/>
            <a:ext cx="501480" cy="448920"/>
          </a:xfrm>
          <a:prstGeom prst="rect">
            <a:avLst/>
          </a:prstGeom>
          <a:solidFill>
            <a:srgbClr val="9999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"/>
          <p:cNvSpPr/>
          <p:nvPr/>
        </p:nvSpPr>
        <p:spPr>
          <a:xfrm>
            <a:off x="5565600" y="1968480"/>
            <a:ext cx="30006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8062920" y="5189400"/>
            <a:ext cx="503280" cy="6130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6939000" y="2890800"/>
            <a:ext cx="690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"/>
          <p:cNvSpPr/>
          <p:nvPr/>
        </p:nvSpPr>
        <p:spPr>
          <a:xfrm>
            <a:off x="5464080" y="3684600"/>
            <a:ext cx="690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5464080" y="5137200"/>
            <a:ext cx="69048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7986600" y="5102280"/>
            <a:ext cx="6908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Trebuchet MS"/>
              </a:rPr>
              <a:t>?</a:t>
            </a:r>
            <a:endParaRPr b="0" lang="en-US" sz="4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29D4-B715-485E-9FCB-7442E850DD0E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From promise to practicality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ructure makes access-enhancing algorithms possibl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ccess activities are all about revenue enhancement, new market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radigm shift in medium leaves existing indexing and metadata on the clipping-room floo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till, an enormous improvem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BCDD-5D65-4C9F-A404-3C87B946EDC6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Future of access</a:t>
            </a: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	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ither print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marter algorithms: searching, indexing, summariza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Exploiting structure, </a:t>
            </a:r>
            <a:r>
              <a:rPr b="0" i="1" lang="en-US" sz="2800" spc="-1" strike="noStrike">
                <a:solidFill>
                  <a:srgbClr val="000000"/>
                </a:solidFill>
                <a:latin typeface="Trebuchet MS"/>
              </a:rPr>
              <a:t>o scema sanctitati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XML workflow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stitutional discipline and complianc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eb edition archiv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ons of supplementary materia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6F2B9-4E75-477F-86D5-7398D181CD5A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Future of access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cern about digital preservation of historic news cont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Objections to microfilm’s continued existence, or PDF to fil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Resources shifted toward revenue-producing activit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rporate vocabulari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60B0-F314-4BF3-AB73-221CBEDDB144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Future of access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omogenization of news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The ‘Google Effect’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Broad subject searching wither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ore automated workflows, less human intervention in data feeds from producer to vendor or user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ird-party repositories for archiv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1552-826B-46B2-8296-8830736B1236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What’s driving access?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int: Not the public good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Enhancing revenue stream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eting competition all over the Web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ttracting term-related advertising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haring content with corporate sibling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Underlies most other news conte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inety-day mental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356-B706-4A57-83AC-5CCBECDCD1DF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Questions, comments?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Vicky McCargar, M.A., MLI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ccargar@mac.co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B658-0C56-418C-A5F5-AE42B9659263}" type="slidenum">
              <a:t>20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oes newspaper content want to be free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holly new mediu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ear of competition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ear of killing the infan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dia groupthink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Shovelware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≥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10 years later: which jobs are going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The Big Decision—ca. 1995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1AF3-73C1-4AEF-8C6C-08C35C7CF701}" type="slidenum">
              <a:t>3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O scema sanctitatis!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Highly formalized, structured medium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Legacy of hot typ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Mechanical metadata’ 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dictable, repeatable structures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Caveat XML programmer!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1D2B-9DBA-40FC-8FFF-C470F4B59E1D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O scema sanctitatis!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ag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tions, headlines, page position, related item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rticle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Headline, byline, dateline, lead, ‘nut’ paragraph, quotations, ‘reverse pyramid’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utomation: Statistical text analysi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dexing, summarization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9953-6F64-4117-B2B2-D0268DCD5597}" type="slidenum">
              <a:t>5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A brief history of access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wspaper text databases ca. 1985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hotojournalism databases ca. 1990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tranets ca. 1992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Newspapers on the Web ca. 1995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DF archives ca. 2002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gitized microfilm ca. 2000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39480" indent="-3394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Web archives … ?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6CA8-9751-4942-AA65-1F058831F0DF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Digitization of microfilm</a:t>
            </a: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	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Information commod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Digitization in exchange for copyright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Vast access to papers otherwise locked in obscurity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gain, mostly about revenue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B4A2-A32C-45C3-83A6-6CD862BE93AB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Digitization of microfilm 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Fabulous… or not so fabulous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OCR is great, but source material is often imperfect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ge geometry is unpredict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ge sequence is unpredictab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ge design standards evolv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dexing: reconciling old and new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C52F-DFA1-4CB0-94EC-89B93DCA6CE1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4272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990000"/>
                </a:solidFill>
                <a:latin typeface="Cochin"/>
              </a:rPr>
              <a:t>Indexing</a:t>
            </a:r>
            <a:endParaRPr b="1" lang="en-US" sz="4600" spc="-1" strike="noStrike">
              <a:solidFill>
                <a:srgbClr val="990000"/>
              </a:solidFill>
              <a:latin typeface="Cochi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8080" y="1752120"/>
            <a:ext cx="7772400" cy="455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recoordinated, ca. 1935-2000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ran -- Foreign Relations -- USSR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ran -- Government 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ran -- Government Officia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Postcoordinated, ca. 2001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ran, foreign relations,  [Russian] government, government officials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75000"/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Intent: Automated Web algorithms start to supplant search tools as rationale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ictoria McCargar | Web-Wise 200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FFA3-EDCE-4812-BECE-AE21F773EE04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7T01:49:00Z</dcterms:created>
  <dc:creator>Los Angeles Times</dc:creator>
  <dc:description/>
  <dc:language>en-US</dc:language>
  <cp:lastModifiedBy>Matthew Ben Burdetsky</cp:lastModifiedBy>
  <cp:lastPrinted>2004-06-06T14:14:03Z</cp:lastPrinted>
  <dcterms:modified xsi:type="dcterms:W3CDTF">2006-01-31T18:09:16Z</dcterms:modified>
  <cp:revision>186</cp:revision>
  <dc:subject/>
  <dc:title>PowerPoint Presentation  -  Losing the First Draft </dc:title>
</cp:coreProperties>
</file>