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C81B0-E07C-44DE-B4ED-17962BD562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ving on to the Say Brother web site, here is the home page.  Again there is no search ability, but we added the ability to browse through the program number/title, and the corporate name.  And the design is more appealing.</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subject headings browse list.  It is very extensive.</a:t>
            </a:r>
            <a:endParaRPr b="0" lang="en-US" sz="1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a sample record for the program.  </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Ten O’Clock News site was the most recent project completed late 2002.  As you can see we added a search function along with the browse function.  We have the same categories of browse functions but we added geographic location.   The browse options are very extensive.  And there is lots of rich data once you get to the news clip record.</a:t>
            </a: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called clips instead of programs because they are pieces of news storie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an extensive subject headings to browse through.</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hows the depth of the clip information.  A lot of data.  </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ree different projects developed under 3 different preservation grants.  New Television Workshop was a grant from the NEA, Say Brother was a grant from NEH and Ten O’Clock news was a grant from IMLS.  The purpose of the grants was to preserve parts of the collections and develop on-line finding aids utilizing MARC record standards.</a:t>
            </a:r>
            <a:r>
              <a:rPr b="0" lang="en-US" sz="1200" spc="-1" strike="noStrike">
                <a:solidFill>
                  <a:srgbClr val="000000"/>
                </a:solidFill>
                <a:latin typeface="Times New Roman"/>
              </a:rPr>
              <a:t>  All of the work on these projects was done by the WGBH Archives department.  In addition we will be adding 50 additional interviews from the WGBH collection, 1 of them being from the Vietnam collection.</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major issue with the three sites is the lack of being able to do general content searches.  The last site comes the closest to that ability, but there is no way to cross search collections.  Granted the NTW collection is so different from the other two the liklihood cross referencing items might be small, but there maybe an African American video artist that was a guest on Say Brother that also had a piece in the NTW.</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ere are the goals for this project.  We want to keep the integrity and richness of the finding aids and the MARC record structure, but be able to cross search, cross reference, and cross browse in a way that makes sense and makes finding things better, and easier with an intuitive interface.</a:t>
            </a:r>
            <a:r>
              <a:rPr b="0" lang="en-US" sz="1200" spc="-1" strike="noStrike">
                <a:solidFill>
                  <a:srgbClr val="000000"/>
                </a:solidFill>
                <a:latin typeface="Times New Roman"/>
              </a:rPr>
              <a:t>  We will also be adding 50 additional interviews from the archive collection, one of which will be fro the Vietnam collection at U Mass.  The Vietnam interviews are all film, so we will be tackling the hurdle of working with film that has been cut for use in a documentary.  We will also be going back to many of the interviews to clear rights, and we will be examining what rights we have for all the material as to whether we can download, stream, or offer for open access/creative commons license.</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the questions we need to answer for our project to allow better searching and finding were: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 did a scan of other sites to see what we liked or disliked about them to help us think about what  we might want to do.  There are three sites that we particularly like in terms of the richness of the content and the ability to find content that we will look at as we design our own structure.</a:t>
            </a:r>
            <a:endParaRPr b="0" lang="en-US" sz="14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ne is the WGBH Forum Network, it’s nice that we like our own work, and can model it.  We like this because it is organized by broad subject headings.   However, as more content is added to the site, each subject heading is packed with content and it becomes harder to zero in on what you might want.  You can also search.   Here but here is what a search for the term “elephant” brings back.</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British Pathe site has an interesting combination of being able to browse and search.  And a bonus of “this day in history”. And there is the lucky dip for browsing. Again the search of elephant brings back some possibilities.</a:t>
            </a:r>
            <a:r>
              <a:rPr b="0" lang="en-US" sz="1200" spc="-1" strike="noStrike">
                <a:solidFill>
                  <a:srgbClr val="000000"/>
                </a:solidFill>
                <a:latin typeface="Times New Roman"/>
              </a:rPr>
              <a:t>  The theme browse is pretty limiting.</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CBC Archive has a few really broad subject headings for browsing and lots of content that is hard to walk through.  A search using “elephant” again brings some interesting returns.  It would be nice if we could search within a subject heading to help narrow the search - like elephant within animals or nature.  But they have no topic of nature or animals, so perhaps they have no elephants?</a:t>
            </a:r>
            <a:endParaRPr b="0" lang="en-US" sz="14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termining the granularity of our search results will be key in how we organize the site structurally, how we implement our search, and the data that is searched.  We want a balance of being able to get a broad return for those who like to wallow in content and make their own decisions based on what else they see, with being able to get a narrow return so that you can quickly zero in on what you are looking for, but it still needs to be the right content that is returned (case point of our elephant searches), and hopefully it should be easy to find something (if it’s there) that is relevant.  And tell you upfront, that that content doesn’t exist here - or some how make that clear to the user.  I personally have a pet peeve with the toothpaste aisle at the grocery store.</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e’ve learned from past projects that these are key issues we need to be guided by as we design the site.  And probably, we will learn about more that need to be addressed.</a:t>
            </a:r>
            <a:endParaRPr b="0" lang="en-US" sz="14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we are working with media, specifically moving images, the metadata that can be used for searching is usually a labor intensive cataloguing process.  Some of our material have this cataloguing to varying degrees, much does not.  To be able to get the granularity of searching that is ideal, we need good descriptive metadata about the content.  This list is some of the data that may exists with media that is not created specifically as catalogue data, but created as part of the production process, that could be used to enhance the descriptive data, and maybe make cataloguing less labor intensiv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finding aids are very rich in detail about the collection and about the production elements.  Each finding aid built upon lesson learned from the one before.  Here is a sample of some of the fields in each collection.  The fields that are different are not the same data named differently, but are new, additional data.  We  kept embellishing the data we were adding.</a:t>
            </a:r>
            <a:endParaRPr b="0" lang="en-US" sz="14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 summary, these are some of the issues we hope to tackle and find solutions to that will enhance the discovery of our material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d like to close with this notion that I recently heard at another conference.  I think it was John Willinsky of the University of British Columbia.  It was in relation to the old academic notion of publish or perish.  Well now with the internet, if one publishes on the internet, but don’t adequately index the work, no can find their work, and search engine’s don’t hit it.  The number of hits they get determines relevancy ranking in some search engines which then allows more hits.  And of course more hits means the possibility of being cited more often, thus verifying validity and substance of the work.  So I leave you with index index index.  Thank you.</a:t>
            </a:r>
            <a:endParaRPr b="0" lang="en-US" sz="1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t’s take a look at the sites.</a:t>
            </a:r>
            <a:endParaRPr b="0" lang="en-US" sz="14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the home page for the NTW collection.  It’s pretty simple, straightforward.  You can either go to the gallery view of short clips, or straight to the finding aid.  (Let’s look quickly at the gallery view and maybe play a clip.)  Then let’s go to the finding aid.</a:t>
            </a:r>
            <a:endParaRPr b="0" lang="en-US" sz="1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 you can see the finding aid is organized by program titles, people involved in making the programs, or by subject headings.  There is no key word search, it’s all browsing through lists.  Here is what the creators browse list looks like, and here is what the subject heading browse list looks like.  Very detailed.  Each one brings you to the information for that program.</a:t>
            </a:r>
            <a:endParaRPr b="0"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is is what the program titles browse looks like.  It is quite extensive.  If you know the title your are looking for you can find it pretty easily.  Otherwise you are pretty much browsing at random, which is one way to explore what’s in a collection.  If we click on a program title, we go to the finding aid for the program with all the associated data.</a:t>
            </a:r>
            <a:endParaRPr b="0" lang="en-US" sz="1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first half of the program record.</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cond half of program record</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98099C-8066-4EA6-A7CF-D5C64E356E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8D2AC6-F854-4EEE-8DC8-0F776D71F8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4B0E4E-3BCE-4BC7-80AF-1AC0D00E58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18F536-7CE7-4AAD-AEF8-DBBFA95C71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E78DF7-C355-4306-866E-D61CE8F8B3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B9303B-7BFE-41D2-8CF2-614DE2C1A4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47AD96-22A0-425D-A1AA-F3F0C54A4D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DFC9C0-4CE4-4EDC-B5A4-893E19108C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123938-C491-4FE1-9A0E-8F8DFDE77C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0EFD7E-25BD-4842-BB91-8ABCBF0723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F0A3D8-92F1-42CD-A0D1-0A90697BED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7C7BEE-E9D3-4EEF-8D26-58EACC9BE7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8AB68F-A687-4581-A7A4-46D35149025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forum.wgbh.org/wgbh/" TargetMode="External"/><Relationship Id="rId2" Type="http://schemas.openxmlformats.org/officeDocument/2006/relationships/hyperlink" Target="http://forum.wgbh.org/wgbh/" TargetMode="External"/><Relationship Id="rId3" Type="http://schemas.openxmlformats.org/officeDocument/2006/relationships/hyperlink" Target="http://forum.wgbh.org/wgbh/" TargetMode="External"/><Relationship Id="rId4" Type="http://schemas.openxmlformats.org/officeDocument/2006/relationships/hyperlink" Target="http://forum.wgbh.org/wgbh/" TargetMode="External"/><Relationship Id="rId5" Type="http://schemas.openxmlformats.org/officeDocument/2006/relationships/hyperlink" Target="http://forum.wgbh.org/wgbh/" TargetMode="External"/><Relationship Id="rId6" Type="http://schemas.openxmlformats.org/officeDocument/2006/relationships/hyperlink" Target="http://www.cbc.ca/archives/" TargetMode="External"/><Relationship Id="rId7" Type="http://schemas.openxmlformats.org/officeDocument/2006/relationships/hyperlink" Target="http://www.cbc.ca/archives/" TargetMode="External"/><Relationship Id="rId8" Type="http://schemas.openxmlformats.org/officeDocument/2006/relationships/hyperlink" Target="http://www.cbc.ca/archives/" TargetMode="External"/><Relationship Id="rId9" Type="http://schemas.openxmlformats.org/officeDocument/2006/relationships/slideLayout" Target="../slideLayouts/slideLayout3.xml"/><Relationship Id="rId10"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hyperlink" Target="http://main.wgbh.org/wgbh/NTW/" TargetMode="External"/><Relationship Id="rId2" Type="http://schemas.openxmlformats.org/officeDocument/2006/relationships/hyperlink" Target="http://main.wgbh.org/wgbh/NTW/" TargetMode="External"/><Relationship Id="rId3" Type="http://schemas.openxmlformats.org/officeDocument/2006/relationships/hyperlink" Target="http://main.wgbh.org/wgbh/NTW/" TargetMode="External"/><Relationship Id="rId4" Type="http://schemas.openxmlformats.org/officeDocument/2006/relationships/hyperlink" Target="http://main.wgbh.org/wgbh/NTW/" TargetMode="External"/><Relationship Id="rId5" Type="http://schemas.openxmlformats.org/officeDocument/2006/relationships/hyperlink" Target="http://main.wgbh.org/wgbh/NTW/" TargetMode="External"/><Relationship Id="rId6" Type="http://schemas.openxmlformats.org/officeDocument/2006/relationships/hyperlink" Target="http://main.wgbh.org/saybrother/" TargetMode="External"/><Relationship Id="rId7" Type="http://schemas.openxmlformats.org/officeDocument/2006/relationships/hyperlink" Target="http://main.wgbh.org/saybrother/" TargetMode="External"/><Relationship Id="rId8" Type="http://schemas.openxmlformats.org/officeDocument/2006/relationships/hyperlink" Target="http://main.wgbh.org/saybrother/" TargetMode="External"/><Relationship Id="rId9" Type="http://schemas.openxmlformats.org/officeDocument/2006/relationships/hyperlink" Target="http://main.wgbh.org/saybrother/" TargetMode="External"/><Relationship Id="rId10" Type="http://schemas.openxmlformats.org/officeDocument/2006/relationships/hyperlink" Target="http://main.wgbh.org/saybrother/" TargetMode="External"/><Relationship Id="rId11" Type="http://schemas.openxmlformats.org/officeDocument/2006/relationships/hyperlink" Target="http://main.wgbh.org/ton/" TargetMode="External"/><Relationship Id="rId12" Type="http://schemas.openxmlformats.org/officeDocument/2006/relationships/hyperlink" Target="http://main.wgbh.org/ton/" TargetMode="External"/><Relationship Id="rId13" Type="http://schemas.openxmlformats.org/officeDocument/2006/relationships/hyperlink" Target="http://main.wgbh.org/ton/" TargetMode="External"/><Relationship Id="rId14" Type="http://schemas.openxmlformats.org/officeDocument/2006/relationships/slideLayout" Target="../slideLayouts/slideLayout3.xml"/><Relationship Id="rId1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veloping thematic access to a video based digital library</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Karen Cariani</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GBH Media Library</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MLS Webwise Conf 2006</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685800" y="977760"/>
            <a:ext cx="7772400" cy="4748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68" name="" descr=""/>
          <p:cNvPicPr/>
          <p:nvPr/>
        </p:nvPicPr>
        <p:blipFill>
          <a:blip r:embed="rId1"/>
          <a:stretch/>
        </p:blipFill>
        <p:spPr>
          <a:xfrm>
            <a:off x="846000" y="609480"/>
            <a:ext cx="7450200" cy="5486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900000" y="609480"/>
            <a:ext cx="7344000" cy="5486400"/>
          </a:xfrm>
          <a:prstGeom prst="rect">
            <a:avLst/>
          </a:prstGeom>
          <a:ln w="0">
            <a:noFill/>
          </a:ln>
        </p:spPr>
      </p:pic>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72" name="" descr=""/>
          <p:cNvPicPr/>
          <p:nvPr/>
        </p:nvPicPr>
        <p:blipFill>
          <a:blip r:embed="rId1"/>
          <a:stretch/>
        </p:blipFill>
        <p:spPr>
          <a:xfrm>
            <a:off x="685800" y="633240"/>
            <a:ext cx="7772400" cy="5437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74" name="" descr=""/>
          <p:cNvPicPr/>
          <p:nvPr/>
        </p:nvPicPr>
        <p:blipFill>
          <a:blip r:embed="rId1"/>
          <a:stretch/>
        </p:blipFill>
        <p:spPr>
          <a:xfrm>
            <a:off x="685800" y="669960"/>
            <a:ext cx="7772400" cy="5365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685800" y="646200"/>
            <a:ext cx="7772400" cy="5411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749160" y="609480"/>
            <a:ext cx="7645680" cy="5486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773280" y="609480"/>
            <a:ext cx="7597440" cy="5486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1566720" y="609480"/>
            <a:ext cx="6008760" cy="5486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2778120" y="609480"/>
            <a:ext cx="3586320" cy="5486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oject overview</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3 different sites developed from 3 different grants</a:t>
            </a:r>
            <a:endParaRPr b="0" lang="en-US" sz="28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w Television Workshop</a:t>
            </a:r>
            <a:endParaRPr b="0" lang="en-US" sz="2400" spc="-1" strike="noStrike">
              <a:solidFill>
                <a:srgbClr val="000000"/>
              </a:solidFill>
              <a:latin typeface="Times New Roman"/>
            </a:endParaRPr>
          </a:p>
          <a:p>
            <a:pPr lvl="2" marL="11430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erimental video art</a:t>
            </a:r>
            <a:endParaRPr b="0" lang="en-US" sz="20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y Brother</a:t>
            </a:r>
            <a:endParaRPr b="0" lang="en-US" sz="2400" spc="-1" strike="noStrike">
              <a:solidFill>
                <a:srgbClr val="000000"/>
              </a:solidFill>
              <a:latin typeface="Times New Roman"/>
            </a:endParaRPr>
          </a:p>
          <a:p>
            <a:pPr lvl="2" marL="11430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ocal series on African American Community in Boston</a:t>
            </a:r>
            <a:endParaRPr b="0" lang="en-US" sz="2000" spc="-1" strike="noStrike">
              <a:solidFill>
                <a:srgbClr val="000000"/>
              </a:solidFill>
              <a:latin typeface="Times New Roman"/>
            </a:endParaRPr>
          </a:p>
          <a:p>
            <a:pPr lvl="1" marL="743040" indent="-285840">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n O’Clock News</a:t>
            </a:r>
            <a:endParaRPr b="0" lang="en-US" sz="2400" spc="-1" strike="noStrike">
              <a:solidFill>
                <a:srgbClr val="000000"/>
              </a:solidFill>
              <a:latin typeface="Times New Roman"/>
            </a:endParaRPr>
          </a:p>
          <a:p>
            <a:pPr lvl="2" marL="1143000" indent="-228600">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ightly local news series - select stories on African American community in Boston and busing</a:t>
            </a:r>
            <a:endParaRPr b="0" lang="en-US" sz="2000" spc="-1" strike="noStrike">
              <a:solidFill>
                <a:srgbClr val="000000"/>
              </a:solidFill>
              <a:latin typeface="Times New Roman"/>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sues with the 3 sites</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cross referenc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cross searching</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site evolved with more sophistication</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st one easiest to use</a:t>
            </a:r>
            <a:endParaRPr b="0" lang="en-US" sz="28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ful if looking for something specific</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rd to do general search</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 to know titles or colle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verall goal </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Keep integrity of finding aid</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lationship of program elements useful</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pth of data useful</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c record metadata is rich</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ring 3 sites together with cross searchable metadata and general subject heading brows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face easy to use, easy to find conte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dd 50 interviews from the archive</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from the Vietnam collection</a:t>
            </a: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6035760" y="8064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sues to address for better access</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rganizational structure?</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 we want to guide users to discovery?</a:t>
            </a:r>
            <a:endParaRPr b="0" lang="en-US" sz="2800" spc="-1" strike="noStrike">
              <a:solidFill>
                <a:srgbClr val="000000"/>
              </a:solidFill>
              <a:latin typeface="Times New Roman"/>
            </a:endParaRPr>
          </a:p>
          <a:p>
            <a:pPr lvl="1" marL="690840" indent="-2656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 assume they can perform a good search?</a:t>
            </a:r>
            <a:endParaRPr b="0" lang="en-US" sz="2400" spc="-1" strike="noStrike">
              <a:solidFill>
                <a:srgbClr val="000000"/>
              </a:solidFill>
              <a:latin typeface="Times New Roman"/>
            </a:endParaRPr>
          </a:p>
          <a:p>
            <a:pPr marL="318960" indent="-31896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should the site look like?</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granularity of subject searching is useful?</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to make it technically flexible enough to allow addition of material and yet keep set granularity of subjects (add subtopics?)</a:t>
            </a:r>
            <a:endParaRPr b="0" lang="en-US" sz="2800" spc="-1" strike="noStrike">
              <a:solidFill>
                <a:srgbClr val="000000"/>
              </a:solidFill>
              <a:latin typeface="Times New Roman"/>
            </a:endParaRPr>
          </a:p>
          <a:p>
            <a:pPr marL="318960" indent="-31896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ow are we limited by rights issues in the level of access that we can provide?</a:t>
            </a:r>
            <a:endParaRPr b="0" lang="en-US" sz="2800" spc="-1" strike="noStrike">
              <a:solidFill>
                <a:srgbClr val="000000"/>
              </a:solidFill>
              <a:latin typeface="Times New Roman"/>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ject Driven sites</a:t>
            </a:r>
            <a:endParaRPr b="0" lang="en-US" sz="44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Times New Roman"/>
                <a:hlinkClick r:id="rId1"/>
              </a:rPr>
              <a:t>http://forum.</a:t>
            </a:r>
            <a:r>
              <a:rPr b="0" lang="en-US" sz="3200" spc="-1" strike="noStrike" u="sng">
                <a:solidFill>
                  <a:srgbClr val="009999"/>
                </a:solidFill>
                <a:uFillTx/>
                <a:latin typeface="Times New Roman"/>
                <a:hlinkClick r:id="rId2"/>
              </a:rPr>
              <a:t>wgbh</a:t>
            </a:r>
            <a:r>
              <a:rPr b="0" lang="en-US" sz="3200" spc="-1" strike="noStrike" u="sng">
                <a:solidFill>
                  <a:srgbClr val="009999"/>
                </a:solidFill>
                <a:uFillTx/>
                <a:latin typeface="Times New Roman"/>
                <a:hlinkClick r:id="rId3"/>
              </a:rPr>
              <a:t>.org/</a:t>
            </a:r>
            <a:r>
              <a:rPr b="0" lang="en-US" sz="3200" spc="-1" strike="noStrike" u="sng">
                <a:solidFill>
                  <a:srgbClr val="009999"/>
                </a:solidFill>
                <a:uFillTx/>
                <a:latin typeface="Times New Roman"/>
                <a:hlinkClick r:id="rId4"/>
              </a:rPr>
              <a:t>wgbh</a:t>
            </a:r>
            <a:r>
              <a:rPr b="0" lang="en-US" sz="3200" spc="-1" strike="noStrike" u="sng">
                <a:solidFill>
                  <a:srgbClr val="009999"/>
                </a:solidFill>
                <a:uFillTx/>
                <a:latin typeface="Times New Roman"/>
                <a:hlinkClick r:id="rId5"/>
              </a:rPr>
              <a: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ttp://www.britishpathe.com/</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Times New Roman"/>
                <a:hlinkClick r:id="rId6"/>
              </a:rPr>
              <a:t>http://www.</a:t>
            </a:r>
            <a:r>
              <a:rPr b="0" lang="en-US" sz="3200" spc="-1" strike="noStrike" u="sng">
                <a:solidFill>
                  <a:srgbClr val="009999"/>
                </a:solidFill>
                <a:uFillTx/>
                <a:latin typeface="Times New Roman"/>
                <a:hlinkClick r:id="rId7"/>
              </a:rPr>
              <a:t>cbc</a:t>
            </a:r>
            <a:r>
              <a:rPr b="0" lang="en-US" sz="3200" spc="-1" strike="noStrike" u="sng">
                <a:solidFill>
                  <a:srgbClr val="009999"/>
                </a:solidFill>
                <a:uFillTx/>
                <a:latin typeface="Times New Roman"/>
                <a:hlinkClick r:id="rId8"/>
              </a:rPr>
              <a:t>.ca/archiv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973080" y="609480"/>
            <a:ext cx="7197840" cy="54864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685800" y="652320"/>
            <a:ext cx="7772400" cy="5400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955800" y="609480"/>
            <a:ext cx="7232400" cy="5486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earch/Access issues</a:t>
            </a:r>
            <a:endParaRPr b="0" lang="en-US" sz="4400" spc="-1" strike="noStrike">
              <a:solidFill>
                <a:srgbClr val="000000"/>
              </a:solidFill>
              <a:latin typeface="Times New Roman"/>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86000"/>
          </a:bodyPr>
          <a:p>
            <a:pPr marL="294840" indent="-294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o many choices</a:t>
            </a:r>
            <a:endParaRPr b="0" lang="en-US" sz="2800" spc="-1" strike="noStrike">
              <a:solidFill>
                <a:srgbClr val="000000"/>
              </a:solidFill>
              <a:latin typeface="Times New Roman"/>
            </a:endParaRPr>
          </a:p>
          <a:p>
            <a:pPr lvl="1" marL="639000" indent="-24552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othpaste aisle at grocery store</a:t>
            </a:r>
            <a:endParaRPr b="0" lang="en-US" sz="2400" spc="-1" strike="noStrike">
              <a:solidFill>
                <a:srgbClr val="000000"/>
              </a:solidFill>
              <a:latin typeface="Times New Roman"/>
            </a:endParaRPr>
          </a:p>
          <a:p>
            <a:pPr lvl="2" marL="982800" indent="-196560">
              <a:lnSpc>
                <a:spcPct val="90000"/>
              </a:lnSpc>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ut some researchers like see large quantities of material to choose from and find things others overlooked </a:t>
            </a:r>
            <a:endParaRPr b="0" lang="en-US" sz="2000" spc="-1" strike="noStrike">
              <a:solidFill>
                <a:srgbClr val="000000"/>
              </a:solidFill>
              <a:latin typeface="Times New Roman"/>
            </a:endParaRPr>
          </a:p>
          <a:p>
            <a:pPr marL="294840" indent="-294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o few choices</a:t>
            </a:r>
            <a:endParaRPr b="0" lang="en-US" sz="2800" spc="-1" strike="noStrike">
              <a:solidFill>
                <a:srgbClr val="000000"/>
              </a:solidFill>
              <a:latin typeface="Times New Roman"/>
            </a:endParaRPr>
          </a:p>
          <a:p>
            <a:pPr lvl="1" marL="639000" indent="-24552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ly baking soda toothpaste</a:t>
            </a:r>
            <a:endParaRPr b="0" lang="en-US" sz="2400" spc="-1" strike="noStrike">
              <a:solidFill>
                <a:srgbClr val="000000"/>
              </a:solidFill>
              <a:latin typeface="Times New Roman"/>
            </a:endParaRPr>
          </a:p>
          <a:p>
            <a:pPr lvl="2" marL="982800" indent="-196560">
              <a:lnSpc>
                <a:spcPct val="90000"/>
              </a:lnSpc>
              <a:spcBef>
                <a:spcPts val="499"/>
              </a:spcBef>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n’t want search to be so narrow that you loose nuances and special finds</a:t>
            </a:r>
            <a:endParaRPr b="0" lang="en-US" sz="2000" spc="-1" strike="noStrike">
              <a:solidFill>
                <a:srgbClr val="000000"/>
              </a:solidFill>
              <a:latin typeface="Times New Roman"/>
            </a:endParaRPr>
          </a:p>
          <a:p>
            <a:pPr marL="294840" indent="-294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the right choices at all</a:t>
            </a:r>
            <a:endParaRPr b="0" lang="en-US" sz="2800" spc="-1" strike="noStrike">
              <a:solidFill>
                <a:srgbClr val="000000"/>
              </a:solidFill>
              <a:latin typeface="Times New Roman"/>
            </a:endParaRPr>
          </a:p>
          <a:p>
            <a:pPr lvl="1" marL="639000" indent="-24552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ead of cold medicine it’s allergy medicine</a:t>
            </a:r>
            <a:endParaRPr b="0" lang="en-US" sz="2400" spc="-1" strike="noStrike">
              <a:solidFill>
                <a:srgbClr val="000000"/>
              </a:solidFill>
              <a:latin typeface="Times New Roman"/>
            </a:endParaRPr>
          </a:p>
          <a:p>
            <a:pPr marL="294840" indent="-2948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oo hard to get to right choices</a:t>
            </a:r>
            <a:endParaRPr b="0" lang="en-US" sz="2800" spc="-1" strike="noStrike">
              <a:solidFill>
                <a:srgbClr val="000000"/>
              </a:solidFill>
              <a:latin typeface="Times New Roman"/>
            </a:endParaRPr>
          </a:p>
          <a:p>
            <a:pPr lvl="1" marL="639000" indent="-24552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t even find the cold medicine</a:t>
            </a:r>
            <a:endParaRPr b="0" lang="en-US" sz="2400" spc="-1" strike="noStrike">
              <a:solidFill>
                <a:srgbClr val="000000"/>
              </a:solidFill>
              <a:latin typeface="Times New Roman"/>
            </a:endParaRPr>
          </a:p>
          <a:p>
            <a:pPr marL="2948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sign Issues</a:t>
            </a:r>
            <a:endParaRPr b="0" lang="en-US" sz="44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chnology behind site needs to be solid</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e and flexible</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face is very important</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sy to use</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uitive navigation</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rning from lessons learned</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alk to potential users up front</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n’t assume we know what they want</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 how they will use the site</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y new features </a:t>
            </a: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tilize existing metadata for search engines</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xt data on video  - lower third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ptioning - but only for final program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 program element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talogued program / shot listed video</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abor intensive to do right</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erview transcript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gram transcripts/audio track</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criptive Video Service transcript</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eep Archival Finding Aids</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dified MARC record</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elds that are covered</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rtist, copyright date and holder, genre, extent, background, scope, producer, performer, subjects</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rsonal name, corporate name, subject keyword, entire crew list</a:t>
            </a:r>
            <a:endParaRPr b="0" lang="en-US" sz="28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mat, item type, length, airda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vious lessons learned</a:t>
            </a:r>
            <a:endParaRPr b="0" lang="en-US" sz="4400" spc="-1" strike="noStrike">
              <a:solidFill>
                <a:srgbClr val="000000"/>
              </a:solidFill>
              <a:latin typeface="Times New Roman"/>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ign - topical/subtopical structure guides search</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eed right metadata to have good search results</a:t>
            </a:r>
            <a:endParaRPr b="0" lang="en-US" sz="2800" spc="-1" strike="noStrike">
              <a:solidFill>
                <a:srgbClr val="000000"/>
              </a:solidFill>
              <a:latin typeface="Times New Roman"/>
            </a:endParaRPr>
          </a:p>
          <a:p>
            <a:pPr lvl="1" marL="713160" indent="-27432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specific should it be?</a:t>
            </a:r>
            <a:endParaRPr b="0" lang="en-US" sz="2400" spc="-1" strike="noStrike">
              <a:solidFill>
                <a:srgbClr val="000000"/>
              </a:solidFill>
              <a:latin typeface="Times New Roman"/>
            </a:endParaRPr>
          </a:p>
          <a:p>
            <a:pPr marL="329040" indent="-3290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osing more metadata to search engines </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textual information with clips enhances metadata for search engines</a:t>
            </a:r>
            <a:endParaRPr b="0" lang="en-US" sz="2800" spc="-1" strike="noStrike">
              <a:solidFill>
                <a:srgbClr val="000000"/>
              </a:solidFill>
              <a:latin typeface="Times New Roman"/>
            </a:endParaRPr>
          </a:p>
          <a:p>
            <a:pPr marL="329040" indent="-32904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lexible back end to allow easy alterations and growth of site </a:t>
            </a:r>
            <a:endParaRPr b="0" lang="en-US" sz="2800" spc="-1" strike="noStrike">
              <a:solidFill>
                <a:srgbClr val="000000"/>
              </a:solidFill>
              <a:latin typeface="Times New Roman"/>
            </a:endParaRPr>
          </a:p>
          <a:p>
            <a:pPr lvl="1" marL="713160" indent="-27432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therwise rebuilding whole the site for new materials and changes</a:t>
            </a:r>
            <a:endParaRPr b="0" lang="en-US" sz="2400" spc="-1" strike="noStrike">
              <a:solidFill>
                <a:srgbClr val="000000"/>
              </a:solidFill>
              <a:latin typeface="Times New Roman"/>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ndex or perish</a:t>
            </a: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no one can find your material - is it ther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3 Sites:</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Times New Roman"/>
                <a:hlinkClick r:id="rId1"/>
              </a:rPr>
              <a:t>http://main.</a:t>
            </a:r>
            <a:r>
              <a:rPr b="0" lang="en-US" sz="3200" spc="-1" strike="noStrike" u="sng">
                <a:solidFill>
                  <a:srgbClr val="009999"/>
                </a:solidFill>
                <a:uFillTx/>
                <a:latin typeface="Times New Roman"/>
                <a:hlinkClick r:id="rId2"/>
              </a:rPr>
              <a:t>wgbh</a:t>
            </a:r>
            <a:r>
              <a:rPr b="0" lang="en-US" sz="3200" spc="-1" strike="noStrike" u="sng">
                <a:solidFill>
                  <a:srgbClr val="009999"/>
                </a:solidFill>
                <a:uFillTx/>
                <a:latin typeface="Times New Roman"/>
                <a:hlinkClick r:id="rId3"/>
              </a:rPr>
              <a:t>.org/</a:t>
            </a:r>
            <a:r>
              <a:rPr b="0" lang="en-US" sz="3200" spc="-1" strike="noStrike" u="sng">
                <a:solidFill>
                  <a:srgbClr val="009999"/>
                </a:solidFill>
                <a:uFillTx/>
                <a:latin typeface="Times New Roman"/>
                <a:hlinkClick r:id="rId4"/>
              </a:rPr>
              <a:t>wgbh</a:t>
            </a:r>
            <a:r>
              <a:rPr b="0" lang="en-US" sz="3200" spc="-1" strike="noStrike" u="sng">
                <a:solidFill>
                  <a:srgbClr val="009999"/>
                </a:solidFill>
                <a:uFillTx/>
                <a:latin typeface="Times New Roman"/>
                <a:hlinkClick r:id="rId5"/>
              </a:rPr>
              <a:t>/NTW/</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Times New Roman"/>
                <a:hlinkClick r:id="rId6"/>
              </a:rPr>
              <a:t>http://main.</a:t>
            </a:r>
            <a:r>
              <a:rPr b="0" lang="en-US" sz="3200" spc="-1" strike="noStrike" u="sng">
                <a:solidFill>
                  <a:srgbClr val="009999"/>
                </a:solidFill>
                <a:uFillTx/>
                <a:latin typeface="Times New Roman"/>
                <a:hlinkClick r:id="rId7"/>
              </a:rPr>
              <a:t>wgbh</a:t>
            </a:r>
            <a:r>
              <a:rPr b="0" lang="en-US" sz="3200" spc="-1" strike="noStrike" u="sng">
                <a:solidFill>
                  <a:srgbClr val="009999"/>
                </a:solidFill>
                <a:uFillTx/>
                <a:latin typeface="Times New Roman"/>
                <a:hlinkClick r:id="rId8"/>
              </a:rPr>
              <a:t>.org/</a:t>
            </a:r>
            <a:r>
              <a:rPr b="0" lang="en-US" sz="3200" spc="-1" strike="noStrike" u="sng">
                <a:solidFill>
                  <a:srgbClr val="009999"/>
                </a:solidFill>
                <a:uFillTx/>
                <a:latin typeface="Times New Roman"/>
                <a:hlinkClick r:id="rId9"/>
              </a:rPr>
              <a:t>saybrother</a:t>
            </a:r>
            <a:r>
              <a:rPr b="0" lang="en-US" sz="3200" spc="-1" strike="noStrike" u="sng">
                <a:solidFill>
                  <a:srgbClr val="009999"/>
                </a:solidFill>
                <a:uFillTx/>
                <a:latin typeface="Times New Roman"/>
                <a:hlinkClick r:id="rId10"/>
              </a:rPr>
              <a:t>/</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Times New Roman"/>
                <a:hlinkClick r:id="rId11"/>
              </a:rPr>
              <a:t>http://main.</a:t>
            </a:r>
            <a:r>
              <a:rPr b="0" lang="en-US" sz="3200" spc="-1" strike="noStrike" u="sng">
                <a:solidFill>
                  <a:srgbClr val="009999"/>
                </a:solidFill>
                <a:uFillTx/>
                <a:latin typeface="Times New Roman"/>
                <a:hlinkClick r:id="rId12"/>
              </a:rPr>
              <a:t>wgbh</a:t>
            </a:r>
            <a:r>
              <a:rPr b="0" lang="en-US" sz="3200" spc="-1" strike="noStrike" u="sng">
                <a:solidFill>
                  <a:srgbClr val="009999"/>
                </a:solidFill>
                <a:uFillTx/>
                <a:latin typeface="Times New Roman"/>
                <a:hlinkClick r:id="rId13"/>
              </a:rPr>
              <a:t>.org/to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795240" y="609480"/>
            <a:ext cx="7551720" cy="5486400"/>
          </a:xfrm>
          <a:prstGeom prst="rect">
            <a:avLst/>
          </a:prstGeom>
          <a:ln w="0">
            <a:noFill/>
          </a:ln>
        </p:spPr>
      </p:pic>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950760" y="609480"/>
            <a:ext cx="7240680" cy="5486400"/>
          </a:xfrm>
          <a:prstGeom prst="rect">
            <a:avLst/>
          </a:prstGeom>
          <a:ln w="0">
            <a:noFill/>
          </a:ln>
        </p:spPr>
      </p:pic>
      <p:sp>
        <p:nvSpPr>
          <p:cNvPr id="59" name=""/>
          <p:cNvSpPr/>
          <p:nvPr/>
        </p:nvSpPr>
        <p:spPr>
          <a:xfrm>
            <a:off x="3268800" y="72993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1494000" y="609480"/>
            <a:ext cx="6156000" cy="5486400"/>
          </a:xfrm>
          <a:prstGeom prst="rect">
            <a:avLst/>
          </a:prstGeom>
          <a:ln w="0">
            <a:noFill/>
          </a:ln>
        </p:spPr>
      </p:pic>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64" name="" descr=""/>
          <p:cNvPicPr/>
          <p:nvPr/>
        </p:nvPicPr>
        <p:blipFill>
          <a:blip r:embed="rId1"/>
          <a:stretch/>
        </p:blipFill>
        <p:spPr>
          <a:xfrm>
            <a:off x="685800" y="663480"/>
            <a:ext cx="7772400" cy="5378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685800" y="792000"/>
            <a:ext cx="7772400" cy="5121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0T17:26:57Z</dcterms:created>
  <dc:creator>WGBH IT</dc:creator>
  <dc:description/>
  <dc:language>en-US</dc:language>
  <cp:lastModifiedBy>Matthew Ben Burdetsky</cp:lastModifiedBy>
  <cp:lastPrinted>2006-02-09T20:05:20Z</cp:lastPrinted>
  <dcterms:modified xsi:type="dcterms:W3CDTF">2006-02-10T20:10:26Z</dcterms:modified>
  <cp:revision>60</cp:revision>
  <dc:subject/>
  <dc:title>Developing thematic access to a video based digital library</dc:title>
</cp:coreProperties>
</file>