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727A-F8E4-42FD-961E-D874B0E6F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49D8-7638-4714-90D7-336CFBB60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0699C-0A26-4634-9345-41B50B64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BF06-3361-4457-9A3B-7884D81D6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FC1F-6AE3-42FD-B3BF-DC3D8833E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36F20-1AAF-4829-B99C-D5273092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3939-5255-4FF7-898A-2ADDD2C6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F2144-4728-4A83-A4A2-422013A49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0BF97-37D2-4936-9986-5E757B0F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F146-F549-4998-A0AA-0B0A1D694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47CCB-4552-4038-8580-83CF96E00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683D-A9BD-4B0F-B156-9DC582FF0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8E421-E79B-4939-AA27-3A2DBA0D8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21A72-C061-43A6-8556-F7332A3D4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3822-49E7-4EAC-BAD0-070E5564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E8AB4-43DA-4AAB-93B4-4BD0025F7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6773-2301-4F6D-BA44-18066372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3DBB0-1AA7-4D57-BA31-011331E2F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85E2-DF90-42F5-91C8-AB004797F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DA98-5B5D-438C-9D95-7557D0BCD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8AC9-E013-4141-8C5C-54DD24857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B03D-605C-4890-9DC0-A51580E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968-BF7E-4491-B8E9-AE53D85C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9C3E-B9C3-4C41-9BF9-CE2436C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Sept 30,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66D86-1703-4563-A5DA-19A94A3B3C0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1A8A-0B03-47CE-9EE1-856584932C7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tvnews.vanderbilt.edu/" TargetMode="External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family-photos.info/viewimage.pl?SID=2004052173181152&amp;UID=1000&amp;auth=yes&amp;code=photo&amp;RC=3097&amp;Sequence=2&amp;code=photo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Vanderbilt </a:t>
            </a:r>
            <a:br>
              <a:rPr sz="1600"/>
            </a:br>
            <a:r>
              <a:rPr b="0" lang="en-US" sz="1600" spc="-1" strike="noStrike">
                <a:solidFill>
                  <a:srgbClr val="660066"/>
                </a:solidFill>
                <a:latin typeface="Tahoma"/>
              </a:rPr>
              <a:t>Television News Archive</a:t>
            </a:r>
            <a:endParaRPr b="0" lang="en-US" sz="1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0" y="4876560"/>
            <a:ext cx="4572000" cy="171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urrent Status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And Recent Accomplish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0" name="" descr="Television News Archive"/>
          <p:cNvPicPr/>
          <p:nvPr/>
        </p:nvPicPr>
        <p:blipFill>
          <a:blip r:embed="rId1"/>
          <a:stretch/>
        </p:blipFill>
        <p:spPr>
          <a:xfrm>
            <a:off x="838080" y="1523880"/>
            <a:ext cx="7696440" cy="13114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61560" y="5670720"/>
            <a:ext cx="457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ul Gherma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anderbilt Univers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aul.gherman@vanderbilt.edu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046160" y="3048120"/>
            <a:ext cx="62964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http://tvnews.vanderbilt.edu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nsite view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esearchers can visit the Archive’s facility in Nashville to view material in the collection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nly the most serious researchers tend to come for onsite us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Most use is remot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-304920" y="-104760"/>
            <a:ext cx="9753840" cy="706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sto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4343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ceived by Nashville insurance executive Paul Simpson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stablished by Vanderbilt University in August 1968, initially as a 3-month experiment that grew into a permanent institution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5" name="" descr="Click to display imag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029200" y="2362320"/>
            <a:ext cx="3592440" cy="26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Unique Arch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e largest, most comprehensive collection of national broadcast news available to the general public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anderbilt has systematically archived completed news programs since Aug 5, 1968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 large amount of unique materia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aterial available at costs affordable by scholars and research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Only resource where researchers can search across all the major national news network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n extensive coll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ver 780,000 abstracts in our news databas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~30,000 hours of regular nightly news progra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~10,000 hours of special news broadcas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Collections of the Archiv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BC, CBS, and NBC evening news taped continuously since 1968 (22,000 hours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NN taped since 1985, indexed since 1996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x News recorded since January 15, 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ws specials: ABC Nightline (since 1989), et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pecial Collections: Watergate hearings, Persian Gulf War, Election 2000, Events of September 11, 2001, War in Iraq, Election 2004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cess to the Collec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V-NewsSearch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mprehensive database of the Archive’s holding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780,000+ record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 evening newscasts, one record per seg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 specials, one record per broadca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arch by topic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alendar interface: browse by dat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-commerce interface for tape loan request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Videotape loan servi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Lend material from the collection on VHS forma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Compilation of requested news segment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uplications of complete program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ervice fees based on affiliation: Vanderbilt &amp; Sponsors, Educational, Other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aterial provided for viewing only.  Tapes must be returne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l licensing of materials borrowed must be negotiated with the original networ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scription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aunched in January 2004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Offered to other educational institu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icing scaled by size of institu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ccess to TV-NewsSearch database and streaming video of the CNN portion of the collec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9T21:13:00Z</dcterms:created>
  <dc:creator>Marshall Breeding</dc:creator>
  <dc:description/>
  <dc:language>en-US</dc:language>
  <cp:lastModifiedBy>Gherman</cp:lastModifiedBy>
  <dcterms:modified xsi:type="dcterms:W3CDTF">2006-01-13T16:12:29Z</dcterms:modified>
  <cp:revision>17</cp:revision>
  <dc:subject/>
  <dc:title>Videotape Format</dc:title>
</cp:coreProperties>
</file>