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BFC2F6-480D-4C96-8753-631A5EEE44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F3F1F2-49F0-4584-9276-395935E341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E3D502-7A7A-4776-AC08-25EB0680C2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031837-0570-4DED-B0FD-A60A76EDE7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6B83E0-8B11-419A-9355-A47DA40491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7DC0B7-24D2-4607-B119-2AFBF6E867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29927C-AFDA-44BE-AA34-FA61B9836B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97BE1A-17AA-4957-B2E4-36608D536F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BA2DE7-3AB2-4D84-B66F-0C6B3E903F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30421C-D6A6-4873-90A2-AC14403EB0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7C6A6-2304-44A3-9B35-7ACC2587B0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0FBAA-1DED-4A8C-8E60-CEEB8B067A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F3B3E-0BDA-4300-BEEF-5178E5B2BF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whitmanarchive.org/" TargetMode="External"/><Relationship Id="rId2" Type="http://schemas.openxmlformats.org/officeDocument/2006/relationships/hyperlink" Target="http://jefferson.village.virginia.edu:8080/saxon/servlet/SaxonServlet?source=whitman/xmlfindaids/docs/unionGuide2.xml&amp;style=whitman/xmlfindaids/shared/styles/unionguideXSL/eadwhit_unionguide.xsl&amp;clear-stylesheet-cache=yes" TargetMode="External"/><Relationship Id="rId3" Type="http://schemas.openxmlformats.org/officeDocument/2006/relationships/hyperlink" Target="http://www.whitmanarchive.org/manuscripts/manuscriptsframeset_files/findaidsindex.html" TargetMode="External"/><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rdering Chaos: Integrated Finding Aid and Interoperability of Metadata</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atherine L. Walter</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versity of Nebraska-Lincoln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6 Feb 200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27080" y="1320840"/>
            <a:ext cx="8889840" cy="4216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127080" y="584280"/>
            <a:ext cx="8889840" cy="5689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127080" y="584280"/>
            <a:ext cx="8889840" cy="5689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5050"/>
                </a:solidFill>
                <a:uFillTx/>
                <a:latin typeface="Arial"/>
                <a:hlinkClick r:id="rId1"/>
              </a:rPr>
              <a:t>http://www.whitmanarchive.org</a:t>
            </a:r>
            <a:br>
              <a:rPr sz="4000"/>
            </a:br>
            <a:endParaRPr b="0" lang="en-US" sz="40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 “Whitman’s Manuscripts,” se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5050"/>
                </a:solidFill>
                <a:uFillTx/>
                <a:latin typeface="Arial"/>
                <a:hlinkClick r:id="rId2"/>
              </a:rPr>
              <a:t>Integrated Guide to Walt Whitman's Poetry Manuscripts</a:t>
            </a:r>
            <a:br>
              <a:rPr sz="2000"/>
            </a:br>
            <a:r>
              <a:rPr b="0" lang="en-US" sz="2000" spc="-1" strike="noStrike">
                <a:solidFill>
                  <a:srgbClr val="000000"/>
                </a:solidFill>
                <a:latin typeface="Arial"/>
              </a:rPr>
              <a:t>The Integrated Guide describes all of Whitman's poetry manuscripts individually, noting their relationships to his published works and providing repository location information. Significant work on item-level descriptions is still underway, so please check back regularly.</a:t>
            </a:r>
            <a:br>
              <a:rPr sz="2000"/>
            </a:b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5050"/>
                </a:solidFill>
                <a:uFillTx/>
                <a:latin typeface="Arial"/>
                <a:hlinkClick r:id="rId3"/>
              </a:rPr>
              <a:t>Finding Aids for Manuscripts at Individual Repositories</a:t>
            </a:r>
            <a:br>
              <a:rPr sz="2000"/>
            </a:br>
            <a:r>
              <a:rPr b="0" lang="en-US" sz="2000" spc="-1" strike="noStrike">
                <a:solidFill>
                  <a:srgbClr val="000000"/>
                </a:solidFill>
                <a:latin typeface="Arial"/>
              </a:rPr>
              <a:t>Finding aids from individual repositories offer descriptions of collections of original Whitman poetry manuscripts that are located in over thirty distinct archival repositories. The finding aids provide information about these particular manuscripts and briefly describe associated materials, such as correspondence, photographs, and other primary source material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1523880" y="-1447920"/>
            <a:ext cx="12191760" cy="9753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llenges</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degree of consistency is needed in encoding to ensure that finding aids are integrated in a meaningful wa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val community may need to develop rule interpretations for EAD as the library community has for MARC.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olarly participation was crucial in order to make meaningful connections among  drafts of poe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om Chaos to Order?</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ong metadata used for digital thematic research collections such as the Walt Whitman Archive are TEI, EAD, MODS, and METS.  Digital objects may include audio, TIFF or other image formats, and video in addition to tex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xt steps</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monstration project funded by IMLS to test METS as a submission package for ingesting complex digital thematic research collections into two different library catalog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L is working with Brown University and the Institute for Advanced Technology in the Humanities at the University of Virginia on the proj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bliography</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ett Barney, Mary Ellen Ducey, Andrew Jewell, Kenneth M. Price, Brian Pytlik Zillig, and Katherine L. Walter,</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r>
              <a:rPr b="0" lang="en-US" sz="2800" spc="-1" strike="noStrike">
                <a:solidFill>
                  <a:srgbClr val="000000"/>
                </a:solidFill>
                <a:latin typeface="Arial"/>
              </a:rPr>
              <a:t>Ordering chaos: an integrated guide and online archive of Walt Whitman’s poetry manuscripts,” </a:t>
            </a:r>
            <a:r>
              <a:rPr b="0" i="1" lang="en-US" sz="2800" spc="-1" strike="noStrike">
                <a:solidFill>
                  <a:srgbClr val="000000"/>
                </a:solidFill>
                <a:latin typeface="Arial"/>
              </a:rPr>
              <a:t>Literary and Linguistic Computing</a:t>
            </a:r>
            <a:r>
              <a:rPr b="0" lang="en-US" sz="2800" spc="-1" strike="noStrike">
                <a:solidFill>
                  <a:srgbClr val="000000"/>
                </a:solidFill>
                <a:latin typeface="Arial"/>
              </a:rPr>
              <a:t>, v.20, no.2 (2005), p.205-217.</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atherine L. Walter and Kenneth M. Price, “An online guide to Walt Whitman’s dispersed manuscripts,” </a:t>
            </a:r>
            <a:r>
              <a:rPr b="0" i="1" lang="en-US" sz="2800" spc="-1" strike="noStrike">
                <a:solidFill>
                  <a:srgbClr val="000000"/>
                </a:solidFill>
                <a:latin typeface="Arial"/>
              </a:rPr>
              <a:t>Library Hi Tech</a:t>
            </a:r>
            <a:r>
              <a:rPr b="0" lang="en-US" sz="2800" spc="-1" strike="noStrike">
                <a:solidFill>
                  <a:srgbClr val="000000"/>
                </a:solidFill>
                <a:latin typeface="Arial"/>
              </a:rPr>
              <a:t>, v.22, no. 3 (2004), p.277-282.</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Walt Whitman Archiv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4"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95-Pres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x digital thematic research collection edited by Drs. Ed Folsom (University of Iowa) and Kenneth M. Price (University of Nebraska-Lincol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uscripts in seventy different institutions in the U.S., U.K., and Franc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Virtual Archive of </a:t>
            </a:r>
            <a:br>
              <a:rPr sz="4000"/>
            </a:br>
            <a:r>
              <a:rPr b="0" lang="en-US" sz="4000" spc="-1" strike="noStrike">
                <a:solidFill>
                  <a:srgbClr val="000000"/>
                </a:solidFill>
                <a:latin typeface="Arial"/>
              </a:rPr>
              <a:t>Walt Whitman’s Manuscripts</a:t>
            </a:r>
            <a:endParaRPr b="0" lang="en-US" sz="4000" spc="-1" strike="noStrike">
              <a:solidFill>
                <a:srgbClr val="000000"/>
              </a:solidFill>
              <a:latin typeface="Arial"/>
            </a:endParaRPr>
          </a:p>
        </p:txBody>
      </p:sp>
      <p:sp>
        <p:nvSpPr>
          <p:cNvPr id="46" name="PlaceHolder 2"/>
          <p:cNvSpPr>
            <a:spLocks noGrp="1"/>
          </p:cNvSpPr>
          <p:nvPr>
            <p:ph/>
          </p:nvPr>
        </p:nvSpPr>
        <p:spPr>
          <a:xfrm>
            <a:off x="457200" y="2361960"/>
            <a:ext cx="8229600" cy="3763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lot funded by the Gladys Krieble Delmas Foundation and the University of Nebraska-Lincoln Research Counci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scale project subsequently funded by the Institute of Museum and Library Services (IML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imary Goal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develop an integrated guide to the dispersed poetry manuscripts of Walt Whitman, found throughout the United States, the United Kingdom, and Franc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model scholar-archivist-librarian collabor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all Research Group</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cholars:</a:t>
            </a:r>
            <a:r>
              <a:rPr b="0" lang="en-US" sz="3200" spc="-1" strike="noStrike">
                <a:solidFill>
                  <a:srgbClr val="000000"/>
                </a:solidFill>
                <a:latin typeface="Arial"/>
              </a:rPr>
              <a:t>  Kenneth Price, Ed Folsom, John Unsworth, Brett Barney, Andrew Jewell, and graduate studen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ibrarians:</a:t>
            </a:r>
            <a:r>
              <a:rPr b="0" lang="en-US" sz="3200" spc="-1" strike="noStrike">
                <a:solidFill>
                  <a:srgbClr val="000000"/>
                </a:solidFill>
                <a:latin typeface="Arial"/>
              </a:rPr>
              <a:t>  Katherine Walter, Brian Pytlik Zillig, Terence Catapano, and Heike Kordish.</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rchivists:</a:t>
            </a:r>
            <a:r>
              <a:rPr b="0" lang="en-US" sz="3200" spc="-1" strike="noStrike">
                <a:solidFill>
                  <a:srgbClr val="000000"/>
                </a:solidFill>
                <a:latin typeface="Arial"/>
              </a:rPr>
              <a:t>  Mary Ellen Ducey, Daniel Pitti, Kris Kiesling, Steven Hensen, and Anne Van Cam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L Research Team</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olars:  Kenneth M. Price, Brett Barney, Andrew Jewell, graduate stud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brarians:  Katherine L. Walter, Brian Pytlik Zilli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vist:  Mary Ellen Duce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flow</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est institutional-specific descriptive information (libraria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est scans of poetry manuscripts and permissions (libraria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institutional specific EAD/XML finding aids if none exist (archivis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 descriptions using surrogates (schola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XSLT stylesheets (librari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ptive information received</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19</a:t>
            </a:r>
            <a:r>
              <a:rPr b="0" lang="en-US" sz="3200" spc="-1" strike="noStrike" baseline="30000">
                <a:solidFill>
                  <a:srgbClr val="000000"/>
                </a:solidFill>
                <a:latin typeface="Arial"/>
              </a:rPr>
              <a:t>th</a:t>
            </a:r>
            <a:r>
              <a:rPr b="0" lang="en-US" sz="3200" spc="-1" strike="noStrike">
                <a:solidFill>
                  <a:srgbClr val="000000"/>
                </a:solidFill>
                <a:latin typeface="Arial"/>
              </a:rPr>
              <a:t> and 20</a:t>
            </a:r>
            <a:r>
              <a:rPr b="0" lang="en-US" sz="3200" spc="-1" strike="noStrike" baseline="30000">
                <a:solidFill>
                  <a:srgbClr val="000000"/>
                </a:solidFill>
                <a:latin typeface="Arial"/>
              </a:rPr>
              <a:t>th</a:t>
            </a:r>
            <a:r>
              <a:rPr b="0" lang="en-US" sz="3200" spc="-1" strike="noStrike">
                <a:solidFill>
                  <a:srgbClr val="000000"/>
                </a:solidFill>
                <a:latin typeface="Arial"/>
              </a:rPr>
              <a:t> Century catalog card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ters from repositories with descriptions (usually for single ite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ai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ea typeface="Arial"/>
              </a:rPr>
              <a:t>—</a:t>
            </a:r>
            <a:r>
              <a:rPr b="0" lang="en-US" sz="3200" spc="-1" strike="noStrike">
                <a:solidFill>
                  <a:srgbClr val="000000"/>
                </a:solidFill>
                <a:latin typeface="Arial"/>
              </a:rPr>
              <a:t>Typed or word processed but not encod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ea typeface="Arial"/>
              </a:rPr>
              <a:t>—</a:t>
            </a:r>
            <a:r>
              <a:rPr b="0" lang="en-US" sz="3200" spc="-1" strike="noStrike">
                <a:solidFill>
                  <a:srgbClr val="000000"/>
                </a:solidFill>
                <a:latin typeface="Arial"/>
              </a:rPr>
              <a:t>Encoded archival description in SGM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ea typeface="Arial"/>
              </a:rPr>
              <a:t>—</a:t>
            </a:r>
            <a:r>
              <a:rPr b="0" lang="en-US" sz="3200" spc="-1" strike="noStrike">
                <a:solidFill>
                  <a:srgbClr val="000000"/>
                </a:solidFill>
                <a:latin typeface="Arial"/>
              </a:rPr>
              <a:t>Encoded archival description in XM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1238400" y="771480"/>
            <a:ext cx="6667200" cy="5315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7T01:23:58Z</dcterms:created>
  <dc:creator>kwalter1</dc:creator>
  <dc:description/>
  <dc:language>en-US</dc:language>
  <cp:lastModifiedBy>Matthew Ben Burdetsky</cp:lastModifiedBy>
  <dcterms:modified xsi:type="dcterms:W3CDTF">2006-01-27T17:46:30Z</dcterms:modified>
  <cp:revision>8</cp:revision>
  <dc:subject/>
  <dc:title>Slide 1</dc:title>
</cp:coreProperties>
</file>